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AutoShape 1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AutoShape 2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AutoShape 6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AutoShape 7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3589200" y="9459720"/>
            <a:ext cx="29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/</a:t>
            </a:r>
            <a:fld id="{F05921B9-741F-4FC8-B744-83EDD32C44B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914400" y="4724280"/>
            <a:ext cx="4943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ldImg"/>
          </p:nvPr>
        </p:nvSpPr>
        <p:spPr>
          <a:xfrm>
            <a:off x="895320" y="752400"/>
            <a:ext cx="4944960" cy="37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1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1"/>
          <p:cNvSpPr/>
          <p:nvPr/>
        </p:nvSpPr>
        <p:spPr>
          <a:xfrm>
            <a:off x="1324080" y="51768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1"/>
          <p:cNvSpPr/>
          <p:nvPr/>
        </p:nvSpPr>
        <p:spPr>
          <a:xfrm>
            <a:off x="1324080" y="51768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1"/>
          <p:cNvSpPr/>
          <p:nvPr/>
        </p:nvSpPr>
        <p:spPr>
          <a:xfrm>
            <a:off x="1324080" y="51768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1"/>
          <p:cNvSpPr/>
          <p:nvPr/>
        </p:nvSpPr>
        <p:spPr>
          <a:xfrm>
            <a:off x="-577800" y="51768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1"/>
          <p:cNvSpPr/>
          <p:nvPr/>
        </p:nvSpPr>
        <p:spPr>
          <a:xfrm>
            <a:off x="1324080" y="51768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 Box 1"/>
          <p:cNvSpPr/>
          <p:nvPr/>
        </p:nvSpPr>
        <p:spPr>
          <a:xfrm>
            <a:off x="1324080" y="51768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1"/>
          <p:cNvSpPr/>
          <p:nvPr/>
        </p:nvSpPr>
        <p:spPr>
          <a:xfrm>
            <a:off x="-57780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1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1"/>
          <p:cNvSpPr/>
          <p:nvPr/>
        </p:nvSpPr>
        <p:spPr>
          <a:xfrm>
            <a:off x="-57780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1"/>
          <p:cNvSpPr/>
          <p:nvPr/>
        </p:nvSpPr>
        <p:spPr>
          <a:xfrm>
            <a:off x="1324080" y="51768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1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1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1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1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1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1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1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1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1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1"/>
          <p:cNvSpPr/>
          <p:nvPr/>
        </p:nvSpPr>
        <p:spPr>
          <a:xfrm>
            <a:off x="3286080" y="519120"/>
            <a:ext cx="33894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1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1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1"/>
          <p:cNvSpPr/>
          <p:nvPr/>
        </p:nvSpPr>
        <p:spPr>
          <a:xfrm>
            <a:off x="1324080" y="519120"/>
            <a:ext cx="7315200" cy="25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6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124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3756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37720" y="3939480"/>
            <a:ext cx="783756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124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772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5388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124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88040" y="167652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38000" y="167652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37720" y="393948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88040" y="393948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38000" y="393948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124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783756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124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3756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124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124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837720" y="380520"/>
            <a:ext cx="776124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124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3772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124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5388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124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7720" y="3939480"/>
            <a:ext cx="783756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"/>
          <p:cNvSpPr/>
          <p:nvPr/>
        </p:nvSpPr>
        <p:spPr>
          <a:xfrm>
            <a:off x="1279440" y="6375240"/>
            <a:ext cx="746784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6666ff"/>
                </a:solidFill>
                <a:latin typeface="Bitstream Vera Sans"/>
              </a:rPr>
              <a:t>  </a:t>
            </a:r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- </a:t>
            </a:r>
            <a:fld id="{A8D3BFF3-9845-4A73-9798-2F2C30279312}" type="slidenum"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 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124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7720" y="1676520"/>
            <a:ext cx="783756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7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43080" indent="-343080">
              <a:lnSpc>
                <a:spcPct val="87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343080" indent="-343080">
              <a:lnSpc>
                <a:spcPct val="87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343080" indent="-343080">
              <a:lnSpc>
                <a:spcPct val="87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343080" indent="-343080">
              <a:lnSpc>
                <a:spcPct val="87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343080" indent="-343080">
              <a:lnSpc>
                <a:spcPct val="87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343080" indent="-343080">
              <a:lnSpc>
                <a:spcPct val="87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s://en.wikipedia.org/wiki/Single-page_application#cite_note-Flanagan2006-1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9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itstream Vera Sans"/>
              </a:rPr>
              <a:t>Sissejuhatus infotehnoloogiasse</a:t>
            </a: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interneti rakenduste tehnoloogia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3" name="AutoShape 5"/>
          <p:cNvSpPr/>
          <p:nvPr/>
        </p:nvSpPr>
        <p:spPr>
          <a:xfrm>
            <a:off x="168120" y="-158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Picture 7" descr="http://imgs.xkcd.com/comics/the_important_field.png"/>
          <p:cNvPicPr/>
          <p:nvPr/>
        </p:nvPicPr>
        <p:blipFill>
          <a:blip r:embed="rId1"/>
          <a:stretch/>
        </p:blipFill>
        <p:spPr>
          <a:xfrm>
            <a:off x="1371600" y="3124080"/>
            <a:ext cx="6734160" cy="2927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Html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: veebilehtede põhikeel 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4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Kujunduskeel, mitte programmeerimiskeel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Hea tutorial:  https://www.w3schools.com/html/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Veebirakenduste kursus meil: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http://lambda.ee/wiki/V%C3%B5rgurakendused_I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Tutvume põhimõtetega loengus tehtavate näidete abil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45" name="Group 3"/>
          <p:cNvGrpSpPr/>
          <p:nvPr/>
        </p:nvGrpSpPr>
        <p:grpSpPr>
          <a:xfrm>
            <a:off x="838080" y="372600"/>
            <a:ext cx="7766280" cy="314280"/>
            <a:chOff x="838080" y="372600"/>
            <a:chExt cx="7766280" cy="314280"/>
          </a:xfrm>
        </p:grpSpPr>
        <p:sp>
          <p:nvSpPr>
            <p:cNvPr id="146" name="Line 4"/>
            <p:cNvSpPr/>
            <p:nvPr/>
          </p:nvSpPr>
          <p:spPr>
            <a:xfrm>
              <a:off x="838080" y="6793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Line 5"/>
            <p:cNvSpPr/>
            <p:nvPr/>
          </p:nvSpPr>
          <p:spPr>
            <a:xfrm flipV="1">
              <a:off x="8604360" y="37260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eebilehtede (failide) serveerim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975960"/>
            <a:ext cx="8077320" cy="560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eebilehed on lihtsalt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ekstid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, mille ette server paneb http-päis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eebileht võetakse reeglina kas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lemasoleva failina arvuti kettal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või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kstina, mille teeb iga kord uuesti mõni programm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: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3184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m võib olla külge-ehitatud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ava-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eebiserverile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(php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3184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Või käia kohe eri-veebiserveri sees (java tomcat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3184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V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õi olla eraldi programm, mille server käivitab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3184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Kombinatsioonid serverite ahelatega on samuti levin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318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50" name="Group 3"/>
          <p:cNvGrpSpPr/>
          <p:nvPr/>
        </p:nvGrpSpPr>
        <p:grpSpPr>
          <a:xfrm>
            <a:off x="836640" y="372600"/>
            <a:ext cx="7767720" cy="314280"/>
            <a:chOff x="836640" y="372600"/>
            <a:chExt cx="7767720" cy="314280"/>
          </a:xfrm>
        </p:grpSpPr>
        <p:sp>
          <p:nvSpPr>
            <p:cNvPr id="151" name="Line 4"/>
            <p:cNvSpPr/>
            <p:nvPr/>
          </p:nvSpPr>
          <p:spPr>
            <a:xfrm>
              <a:off x="836640" y="6793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Line 5"/>
            <p:cNvSpPr/>
            <p:nvPr/>
          </p:nvSpPr>
          <p:spPr>
            <a:xfrm flipV="1">
              <a:off x="8604360" y="37260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Käivitame lihtsa serveri: flask (flask.pocoo.org/)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975960"/>
            <a:ext cx="8077320" cy="560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Installi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sudo apt-get install python3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sudo apt-get install python3-flask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ee programm hello.py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from flask import Flask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app = Flask(__name__)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@app.route("/")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def hello()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return "Hello World!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“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Käivita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FLASK_APP=hello.py flask run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Vaata brauserist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http://127.0.0.1:5000/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55" name="Group 3"/>
          <p:cNvGrpSpPr/>
          <p:nvPr/>
        </p:nvGrpSpPr>
        <p:grpSpPr>
          <a:xfrm>
            <a:off x="836640" y="372600"/>
            <a:ext cx="7767720" cy="314280"/>
            <a:chOff x="836640" y="372600"/>
            <a:chExt cx="7767720" cy="314280"/>
          </a:xfrm>
        </p:grpSpPr>
        <p:sp>
          <p:nvSpPr>
            <p:cNvPr id="156" name="Line 4"/>
            <p:cNvSpPr/>
            <p:nvPr/>
          </p:nvSpPr>
          <p:spPr>
            <a:xfrm>
              <a:off x="836640" y="6793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Line 5"/>
            <p:cNvSpPr/>
            <p:nvPr/>
          </p:nvSpPr>
          <p:spPr>
            <a:xfrm flipV="1">
              <a:off x="8604360" y="37260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Serveeri faile flaski serveri abi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975960"/>
            <a:ext cx="8077320" cy="560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eeme väikesed katsefailid katse.txt ja katse.html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Flask serveerib faile kataloogist 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static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, teeme selle ja kopeerime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mkdir static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cd static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cp /mnt/c/Users/Tanel/katse.txt 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cp /mnt/c/Users/Tanel/katse.html 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Vaata brauserist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http://127.0.0.1:5000/static/katse.tx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http://127.0.0.1:5000/static/katse.html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60" name="Group 3"/>
          <p:cNvGrpSpPr/>
          <p:nvPr/>
        </p:nvGrpSpPr>
        <p:grpSpPr>
          <a:xfrm>
            <a:off x="836640" y="372600"/>
            <a:ext cx="7767720" cy="314280"/>
            <a:chOff x="836640" y="372600"/>
            <a:chExt cx="7767720" cy="314280"/>
          </a:xfrm>
        </p:grpSpPr>
        <p:sp>
          <p:nvSpPr>
            <p:cNvPr id="161" name="Line 4"/>
            <p:cNvSpPr/>
            <p:nvPr/>
          </p:nvSpPr>
          <p:spPr>
            <a:xfrm>
              <a:off x="836640" y="6793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Line 5"/>
            <p:cNvSpPr/>
            <p:nvPr/>
          </p:nvSpPr>
          <p:spPr>
            <a:xfrm flipV="1">
              <a:off x="8604360" y="37260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ndmete saatmine serverile: cgi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 konventsioo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976320"/>
            <a:ext cx="7848720" cy="54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291960" indent="-2919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URL-i lõpus (peale ?) oleva teksti saab serveri kutsutav programm kätt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91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91960" indent="-2919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rauser saadab vormi info cgi-kodeeritult nii: a=1&amp;b=35 jne, kus a ja b jne on välja nimed, võrduse järel aga kasutaja sisestatud väärtuse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91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91960" indent="-2919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üüpiline url cgi parameetriteg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91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9196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http://dijkstra.cs.ttu.ee/~tammet/cgi-bin/loeng/tst6.py?a=1&amp;b=2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9196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9196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http://dijkstra.cs.ttu.ee/~tammet/cgi-bin/loeng/tst8.py?a=12&amp;b=44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9196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91960" indent="-2919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Vt lisaks ja detaile: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://lambda.ee/wiki/Cgi_example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91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91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91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91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836640" y="372600"/>
            <a:ext cx="7767720" cy="314280"/>
            <a:chOff x="836640" y="372600"/>
            <a:chExt cx="7767720" cy="314280"/>
          </a:xfrm>
        </p:grpSpPr>
        <p:sp>
          <p:nvSpPr>
            <p:cNvPr id="166" name="Line 4"/>
            <p:cNvSpPr/>
            <p:nvPr/>
          </p:nvSpPr>
          <p:spPr>
            <a:xfrm>
              <a:off x="836640" y="6793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Line 5"/>
            <p:cNvSpPr/>
            <p:nvPr/>
          </p:nvSpPr>
          <p:spPr>
            <a:xfrm flipV="1">
              <a:off x="8604360" y="37260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data.py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440" y="975960"/>
            <a:ext cx="8077320" cy="560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ee programm data.py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from flask import Flask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from flask import reques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app = Flask(__name__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@app.route("/"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def hello()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return "Hello World!"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@app.route('/cgi/show', methods=['POST', 'GET']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def cgi()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inparams={}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keys=request.args.keys(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for key in key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inparams[key]=request.args.get(key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return(str(inparams)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Vaata brauserist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http://127.0.0.1:5000/cgi/show?a=1&amp;b=2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70" name="Group 3"/>
          <p:cNvGrpSpPr/>
          <p:nvPr/>
        </p:nvGrpSpPr>
        <p:grpSpPr>
          <a:xfrm>
            <a:off x="836640" y="372600"/>
            <a:ext cx="7767720" cy="314280"/>
            <a:chOff x="836640" y="372600"/>
            <a:chExt cx="7767720" cy="314280"/>
          </a:xfrm>
        </p:grpSpPr>
        <p:sp>
          <p:nvSpPr>
            <p:cNvPr id="171" name="Line 4"/>
            <p:cNvSpPr/>
            <p:nvPr/>
          </p:nvSpPr>
          <p:spPr>
            <a:xfrm>
              <a:off x="836640" y="6793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Line 5"/>
            <p:cNvSpPr/>
            <p:nvPr/>
          </p:nvSpPr>
          <p:spPr>
            <a:xfrm flipV="1">
              <a:off x="8604360" y="37260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sum.py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975960"/>
            <a:ext cx="8077320" cy="560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from flask import Flask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from flask import reques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app = Flask(__name__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@app.route('/cgi/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sum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', methods=['POST', 'GET']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def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sum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()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=request.args.get(“a“,0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b=request.args.get(“b“,0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return(str(int(a)+int(b))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http://127.0.0.1:5000/cgi/sum?a=1&amp;b=2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75" name="Group 3"/>
          <p:cNvGrpSpPr/>
          <p:nvPr/>
        </p:nvGrpSpPr>
        <p:grpSpPr>
          <a:xfrm>
            <a:off x="836640" y="372600"/>
            <a:ext cx="7767720" cy="314280"/>
            <a:chOff x="836640" y="372600"/>
            <a:chExt cx="7767720" cy="314280"/>
          </a:xfrm>
        </p:grpSpPr>
        <p:sp>
          <p:nvSpPr>
            <p:cNvPr id="176" name="Line 4"/>
            <p:cNvSpPr/>
            <p:nvPr/>
          </p:nvSpPr>
          <p:spPr>
            <a:xfrm>
              <a:off x="836640" y="6793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Line 5"/>
            <p:cNvSpPr/>
            <p:nvPr/>
          </p:nvSpPr>
          <p:spPr>
            <a:xfrm flipV="1">
              <a:off x="8604360" y="37260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Brauser oskab mitut keel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4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23280" indent="-321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Iga normaalne brauser mõistab:</a:t>
            </a:r>
            <a:endParaRPr b="1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marL="3232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marL="3232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Bitstream Vera Sans"/>
              </a:rPr>
              <a:t>Põhiasjad:</a:t>
            </a:r>
            <a:endParaRPr b="1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1000" indent="-26748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Bitstream Vera Sans"/>
              </a:rPr>
              <a:t>h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tml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1000" indent="-26748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Bitstream Vera Sans"/>
              </a:rPr>
              <a:t>c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ss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1000" indent="-26748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Bitstream Vera Sans"/>
              </a:rPr>
              <a:t>j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avascript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1000" indent="0">
              <a:lnSpc>
                <a:spcPct val="93000"/>
              </a:lnSpc>
              <a:spcBef>
                <a:spcPts val="400"/>
              </a:spcBef>
              <a:buNone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marL="3232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Lisatehnoloogiad: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1000" indent="-26748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Bitstream Vera Sans"/>
              </a:rPr>
              <a:t>WebGL graafika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1000" indent="-26748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Bitstream Vera Sans"/>
              </a:rPr>
              <a:t>Canvas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1000" indent="-26748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Bitstream Vera Sans"/>
              </a:rPr>
              <a:t>Video ja audio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1000" indent="-26748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Xslt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1000" indent="-26748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Bitstream Vera Sans"/>
              </a:rPr>
              <a:t>Xml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1000" indent="-26748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Bitstream Vera Sans"/>
              </a:rPr>
              <a:t>Väikesed andmebaasid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1000" indent="-26748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Bitstream Vera Sans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1000" indent="0">
              <a:lnSpc>
                <a:spcPct val="93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80" name="Group 3"/>
          <p:cNvGrpSpPr/>
          <p:nvPr/>
        </p:nvGrpSpPr>
        <p:grpSpPr>
          <a:xfrm>
            <a:off x="838080" y="372600"/>
            <a:ext cx="7766280" cy="314280"/>
            <a:chOff x="838080" y="372600"/>
            <a:chExt cx="7766280" cy="314280"/>
          </a:xfrm>
        </p:grpSpPr>
        <p:sp>
          <p:nvSpPr>
            <p:cNvPr id="181" name="Line 4"/>
            <p:cNvSpPr/>
            <p:nvPr/>
          </p:nvSpPr>
          <p:spPr>
            <a:xfrm>
              <a:off x="838080" y="6793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Line 5"/>
            <p:cNvSpPr/>
            <p:nvPr/>
          </p:nvSpPr>
          <p:spPr>
            <a:xfrm flipV="1">
              <a:off x="8604360" y="37260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HTM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4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15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Teksti paigutamise / lehe kujundamise keel</a:t>
            </a:r>
            <a:endParaRPr b="1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15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Näited kohapeal</a:t>
            </a:r>
            <a:endParaRPr b="1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15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Loe: http://www.w3schools.com/html</a:t>
            </a:r>
            <a:endParaRPr b="1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15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Bitstream Vera Sans"/>
              </a:rPr>
              <a:t>Ametlik standard on HTML5: </a:t>
            </a:r>
            <a:endParaRPr b="1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t-EE" sz="2200" spc="-1" strike="noStrike">
                <a:solidFill>
                  <a:srgbClr val="000000"/>
                </a:solidFill>
                <a:latin typeface="Bitstream Vera Sans"/>
              </a:rPr>
              <a:t>https://www.w3.org/TR/html5/</a:t>
            </a:r>
            <a:endParaRPr b="1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Bitstream Vera Sans"/>
              </a:rPr>
              <a:t>	</a:t>
            </a:r>
            <a:endParaRPr b="1" lang="en-US" sz="22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85" name="Group 3"/>
          <p:cNvGrpSpPr/>
          <p:nvPr/>
        </p:nvGrpSpPr>
        <p:grpSpPr>
          <a:xfrm>
            <a:off x="838080" y="372600"/>
            <a:ext cx="7766280" cy="314280"/>
            <a:chOff x="838080" y="372600"/>
            <a:chExt cx="7766280" cy="314280"/>
          </a:xfrm>
        </p:grpSpPr>
        <p:sp>
          <p:nvSpPr>
            <p:cNvPr id="186" name="Line 4"/>
            <p:cNvSpPr/>
            <p:nvPr/>
          </p:nvSpPr>
          <p:spPr>
            <a:xfrm>
              <a:off x="838080" y="6793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Line 5"/>
            <p:cNvSpPr/>
            <p:nvPr/>
          </p:nvSpPr>
          <p:spPr>
            <a:xfrm flipV="1">
              <a:off x="8604360" y="37260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Klassikaline veebirakend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4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Bitstream Vera Sans"/>
              </a:rPr>
              <a:t>Server saadab brauserile html teksti</a:t>
            </a:r>
            <a:endParaRPr b="1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Bitstream Vera Sans"/>
              </a:rPr>
              <a:t>Kasutaja täidab vormid/vajutab nuppe</a:t>
            </a:r>
            <a:endParaRPr b="1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Bitstream Vera Sans"/>
              </a:rPr>
              <a:t>Brauser saadab serverile sisestatud parameetrid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200" spc="-1" strike="noStrike">
                <a:solidFill>
                  <a:srgbClr val="000000"/>
                </a:solidFill>
                <a:latin typeface="Bitstream Vera Sans"/>
              </a:rPr>
              <a:t>Server arvutab parameetrite järgi uue html teksti</a:t>
            </a:r>
            <a:endParaRPr b="1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Bitstream Vera Sans"/>
              </a:rPr>
              <a:t>Brauser kuvab uue html teksti </a:t>
            </a:r>
            <a:endParaRPr b="1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Bitstream Vera Sans"/>
              </a:rPr>
              <a:t>Jne ...</a:t>
            </a:r>
            <a:endParaRPr b="1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1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332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90" name="Group 3"/>
          <p:cNvGrpSpPr/>
          <p:nvPr/>
        </p:nvGrpSpPr>
        <p:grpSpPr>
          <a:xfrm>
            <a:off x="838080" y="372600"/>
            <a:ext cx="7766280" cy="314280"/>
            <a:chOff x="838080" y="372600"/>
            <a:chExt cx="7766280" cy="314280"/>
          </a:xfrm>
        </p:grpSpPr>
        <p:sp>
          <p:nvSpPr>
            <p:cNvPr id="191" name="Line 4"/>
            <p:cNvSpPr/>
            <p:nvPr/>
          </p:nvSpPr>
          <p:spPr>
            <a:xfrm>
              <a:off x="838080" y="6793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Line 5"/>
            <p:cNvSpPr/>
            <p:nvPr/>
          </p:nvSpPr>
          <p:spPr>
            <a:xfrm flipV="1">
              <a:off x="8604360" y="37260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0"/>
            <a:ext cx="81169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oengu ülevaade. Interneti rakendused.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40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764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76480" indent="-2754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eeldetuletus: baasprotokollid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76480" indent="-2754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TTP protokoll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76480" indent="-2754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ailide tõmbamine ja serveerimine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07320" indent="-22788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uidas http abil faili tõmmat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07320" indent="-227880">
              <a:lnSpc>
                <a:spcPct val="93000"/>
              </a:lnSpc>
              <a:spcBef>
                <a:spcPts val="400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fo saatmine serverile: cgi protokoll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76480" indent="-2754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s brauseril sees on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07320" indent="-227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HTML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07320" indent="-227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CS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07320" indent="-227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Javascript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76480" indent="-2754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Klassikaline veebirakendus: server ehitab html teksti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76480" indent="-2754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Single-page app: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07320" indent="-227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server ehitab datat: json teksti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07320" indent="-227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javascript brauseris muudab/ehitab html teksti otse brauseri kõhu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76480" indent="-2754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Masintöödeldav andmete esitamine: JSON ja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XML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76480" indent="-2754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SzPct val="72000"/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ehnoloogiastack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764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2764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764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7" name="Group 3"/>
          <p:cNvGrpSpPr/>
          <p:nvPr/>
        </p:nvGrpSpPr>
        <p:grpSpPr>
          <a:xfrm>
            <a:off x="838080" y="371520"/>
            <a:ext cx="7769520" cy="318960"/>
            <a:chOff x="838080" y="371520"/>
            <a:chExt cx="7769520" cy="318960"/>
          </a:xfrm>
        </p:grpSpPr>
        <p:sp>
          <p:nvSpPr>
            <p:cNvPr id="58" name="Line 4"/>
            <p:cNvSpPr/>
            <p:nvPr/>
          </p:nvSpPr>
          <p:spPr>
            <a:xfrm>
              <a:off x="838080" y="682560"/>
              <a:ext cx="77677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Line 5"/>
            <p:cNvSpPr/>
            <p:nvPr/>
          </p:nvSpPr>
          <p:spPr>
            <a:xfrm flipV="1">
              <a:off x="8607600" y="371520"/>
              <a:ext cx="0" cy="3189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sumapp.py       </a:t>
            </a:r>
            <a:r>
              <a:rPr b="0" lang="et-EE" sz="2400" spc="-1" strike="noStrike">
                <a:solidFill>
                  <a:srgbClr val="000099"/>
                </a:solidFill>
                <a:latin typeface="Bitstream Vera Sans"/>
              </a:rPr>
              <a:t>http://127.0.0.1:5000/cgi/sumapp</a:t>
            </a: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440" y="975960"/>
            <a:ext cx="8077320" cy="560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from flask import Flask</a:t>
            </a: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from flask import request</a:t>
            </a: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app = Flask(__name__)</a:t>
            </a: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@app.route('/cgi/sumapp', methods=['POST', 'GET'])</a:t>
            </a: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def myapp():</a:t>
            </a: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a=request.args.get("a",0)</a:t>
            </a: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b=request.args.get("b",0)</a:t>
            </a: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r="sum is: "+str(int(a)+int(b))+"&lt;p&gt;"</a:t>
            </a: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s="""</a:t>
            </a: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get sum:&lt;p&gt;</a:t>
            </a: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&lt;form action='/cgi/sumapp'&gt;</a:t>
            </a: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       </a:t>
            </a: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a &lt;input type='text' name='a'&gt; &lt;br&gt;</a:t>
            </a: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       </a:t>
            </a: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b &lt;input type='text' name='b'&gt; &lt;p&gt;</a:t>
            </a: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       </a:t>
            </a: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&lt;input type='submit' value='calculate!'&gt;</a:t>
            </a: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&lt;/form&gt;</a:t>
            </a: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"""</a:t>
            </a: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if a and b: res=r+s</a:t>
            </a: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else: res=s</a:t>
            </a: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return(res)</a:t>
            </a: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95" name="Group 3"/>
          <p:cNvGrpSpPr/>
          <p:nvPr/>
        </p:nvGrpSpPr>
        <p:grpSpPr>
          <a:xfrm>
            <a:off x="836640" y="372600"/>
            <a:ext cx="7767720" cy="314280"/>
            <a:chOff x="836640" y="372600"/>
            <a:chExt cx="7767720" cy="314280"/>
          </a:xfrm>
        </p:grpSpPr>
        <p:sp>
          <p:nvSpPr>
            <p:cNvPr id="196" name="Line 4"/>
            <p:cNvSpPr/>
            <p:nvPr/>
          </p:nvSpPr>
          <p:spPr>
            <a:xfrm>
              <a:off x="836640" y="6793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Line 5"/>
            <p:cNvSpPr/>
            <p:nvPr/>
          </p:nvSpPr>
          <p:spPr>
            <a:xfrm flipV="1">
              <a:off x="8604360" y="37260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S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4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T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äpset teksti paigutust ja kujundust võimaldav keel HTML täiendusek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äited kohapeal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Uuri lisaks:  http://www.w3schools.com/cs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00" name="Group 3"/>
          <p:cNvGrpSpPr/>
          <p:nvPr/>
        </p:nvGrpSpPr>
        <p:grpSpPr>
          <a:xfrm>
            <a:off x="838080" y="372600"/>
            <a:ext cx="7766280" cy="314280"/>
            <a:chOff x="838080" y="372600"/>
            <a:chExt cx="7766280" cy="314280"/>
          </a:xfrm>
        </p:grpSpPr>
        <p:sp>
          <p:nvSpPr>
            <p:cNvPr id="201" name="Line 4"/>
            <p:cNvSpPr/>
            <p:nvPr/>
          </p:nvSpPr>
          <p:spPr>
            <a:xfrm>
              <a:off x="838080" y="6793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Line 5"/>
            <p:cNvSpPr/>
            <p:nvPr/>
          </p:nvSpPr>
          <p:spPr>
            <a:xfrm flipV="1">
              <a:off x="8604360" y="37260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03" name="Picture 8" descr="http://images.cdn.bigcartel.com/bigcartel/product_images/66597677/max_h-1000+max_w-1000/CSStoHTMLSlate_2445.jpg"/>
          <p:cNvPicPr/>
          <p:nvPr/>
        </p:nvPicPr>
        <p:blipFill>
          <a:blip r:embed="rId1"/>
          <a:stretch/>
        </p:blipFill>
        <p:spPr>
          <a:xfrm>
            <a:off x="3068640" y="3200400"/>
            <a:ext cx="3094200" cy="3362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Javascrip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4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Brauseri programmeerimiskeel: javascripti programmid töötavad otse brauseris: muudavad htmli, css-i, võtavad ühendust serveriga jne jn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äited kohapeal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Uuri lisaks:  http://www.w3schools.com/j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06" name="Group 3"/>
          <p:cNvGrpSpPr/>
          <p:nvPr/>
        </p:nvGrpSpPr>
        <p:grpSpPr>
          <a:xfrm>
            <a:off x="838080" y="372600"/>
            <a:ext cx="7766280" cy="314280"/>
            <a:chOff x="838080" y="372600"/>
            <a:chExt cx="7766280" cy="314280"/>
          </a:xfrm>
        </p:grpSpPr>
        <p:sp>
          <p:nvSpPr>
            <p:cNvPr id="207" name="Line 4"/>
            <p:cNvSpPr/>
            <p:nvPr/>
          </p:nvSpPr>
          <p:spPr>
            <a:xfrm>
              <a:off x="838080" y="6793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Line 5"/>
            <p:cNvSpPr/>
            <p:nvPr/>
          </p:nvSpPr>
          <p:spPr>
            <a:xfrm flipV="1">
              <a:off x="8604360" y="37260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9" name="AutoShape 8"/>
          <p:cNvSpPr/>
          <p:nvPr/>
        </p:nvSpPr>
        <p:spPr>
          <a:xfrm>
            <a:off x="168120" y="-158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AutoShape 10"/>
          <p:cNvSpPr/>
          <p:nvPr/>
        </p:nvSpPr>
        <p:spPr>
          <a:xfrm>
            <a:off x="320760" y="-6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AutoShape 12"/>
          <p:cNvSpPr/>
          <p:nvPr/>
        </p:nvSpPr>
        <p:spPr>
          <a:xfrm>
            <a:off x="473040" y="1461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AutoShape 14"/>
          <p:cNvSpPr/>
          <p:nvPr/>
        </p:nvSpPr>
        <p:spPr>
          <a:xfrm>
            <a:off x="625320" y="2984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Picture 5" descr=""/>
          <p:cNvPicPr/>
          <p:nvPr/>
        </p:nvPicPr>
        <p:blipFill>
          <a:blip r:embed="rId1"/>
          <a:stretch/>
        </p:blipFill>
        <p:spPr>
          <a:xfrm>
            <a:off x="3448080" y="3962520"/>
            <a:ext cx="2543040" cy="1800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Single-page app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4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Wikipedia ütleb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A single-page application (SPA) is a web application or web site that interacts with the user by dynamically rewriting the current page rather than loading entire new pages from a server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This approach avoids interruption of the user experience between successive pages, making the application behave more like a desktop application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In an SPA, either all necessary code – HTML, JavaScript, and CSS – is retrieved with a single page load,</a:t>
            </a:r>
            <a:r>
              <a:rPr b="0" lang="en-US" sz="1800" spc="-1" strike="noStrike" u="sng" baseline="30000">
                <a:solidFill>
                  <a:srgbClr val="ccccff"/>
                </a:solidFill>
                <a:uFillTx/>
                <a:latin typeface="Bitstream Vera Sans"/>
                <a:hlinkClick r:id="rId1"/>
              </a:rPr>
              <a:t>[1]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or the appropriate resources are dynamically loaded and added to the page as necessary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16" name="Group 3"/>
          <p:cNvGrpSpPr/>
          <p:nvPr/>
        </p:nvGrpSpPr>
        <p:grpSpPr>
          <a:xfrm>
            <a:off x="838080" y="372600"/>
            <a:ext cx="7766280" cy="314280"/>
            <a:chOff x="838080" y="372600"/>
            <a:chExt cx="7766280" cy="314280"/>
          </a:xfrm>
        </p:grpSpPr>
        <p:sp>
          <p:nvSpPr>
            <p:cNvPr id="217" name="Line 4"/>
            <p:cNvSpPr/>
            <p:nvPr/>
          </p:nvSpPr>
          <p:spPr>
            <a:xfrm>
              <a:off x="838080" y="6793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Line 5"/>
            <p:cNvSpPr/>
            <p:nvPr/>
          </p:nvSpPr>
          <p:spPr>
            <a:xfrm flipV="1">
              <a:off x="8604360" y="37260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9" name="AutoShape 8"/>
          <p:cNvSpPr/>
          <p:nvPr/>
        </p:nvSpPr>
        <p:spPr>
          <a:xfrm>
            <a:off x="168120" y="-158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AutoShape 10"/>
          <p:cNvSpPr/>
          <p:nvPr/>
        </p:nvSpPr>
        <p:spPr>
          <a:xfrm>
            <a:off x="320760" y="-6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AutoShape 12"/>
          <p:cNvSpPr/>
          <p:nvPr/>
        </p:nvSpPr>
        <p:spPr>
          <a:xfrm>
            <a:off x="473040" y="1461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AutoShape 14"/>
          <p:cNvSpPr/>
          <p:nvPr/>
        </p:nvSpPr>
        <p:spPr>
          <a:xfrm>
            <a:off x="625320" y="2984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asum.html rehkendus j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vascript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is otse brauseri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4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28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&lt;div id="ans"&gt;&lt;/div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8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get sum:&lt;p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8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&lt;form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8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a &lt;input type='text' id='a'&gt; &lt;br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8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b &lt;input type='text' id='b'&gt; &lt;p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8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&lt;input type='button' onclick='calc()' value='calculate with javascript!'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8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&lt;/form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8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&lt;script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8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function calc() {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8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var a,b,res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8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a=document.getElementById('a').value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8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b=document.getElementById('b').value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8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res=String(parseInt(a)+parseInt(b))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8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document.getElementById('ans').innerHTML="Sum is: "+res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8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83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&lt;/script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838080" y="372600"/>
            <a:ext cx="7766280" cy="314280"/>
            <a:chOff x="838080" y="372600"/>
            <a:chExt cx="7766280" cy="314280"/>
          </a:xfrm>
        </p:grpSpPr>
        <p:sp>
          <p:nvSpPr>
            <p:cNvPr id="226" name="Line 4"/>
            <p:cNvSpPr/>
            <p:nvPr/>
          </p:nvSpPr>
          <p:spPr>
            <a:xfrm>
              <a:off x="838080" y="6793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Line 5"/>
            <p:cNvSpPr/>
            <p:nvPr/>
          </p:nvSpPr>
          <p:spPr>
            <a:xfrm flipV="1">
              <a:off x="8604360" y="37260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8" name="AutoShape 8"/>
          <p:cNvSpPr/>
          <p:nvPr/>
        </p:nvSpPr>
        <p:spPr>
          <a:xfrm>
            <a:off x="168120" y="-158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AutoShape 10"/>
          <p:cNvSpPr/>
          <p:nvPr/>
        </p:nvSpPr>
        <p:spPr>
          <a:xfrm>
            <a:off x="320760" y="-6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AutoShape 12"/>
          <p:cNvSpPr/>
          <p:nvPr/>
        </p:nvSpPr>
        <p:spPr>
          <a:xfrm>
            <a:off x="473040" y="1461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AutoShape 14"/>
          <p:cNvSpPr/>
          <p:nvPr/>
        </p:nvSpPr>
        <p:spPr>
          <a:xfrm>
            <a:off x="625320" y="2984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AJAX:  j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vascript</a:t>
            </a: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 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synchronous querie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4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JAX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tähistab: Javascript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+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sync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hronous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q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ueries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Mõte selles, et saad brauseris javascriptiga avada serveri urli a la nii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fetch(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ur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, {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method: "get"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}).then(r=&gt;r.text()).then(handleresult);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ja siis brauseris saadud teksti või andmetega (tüüpiliselt javascripti formaadis ehk jsonis) edasi tegutseda.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Tähtis: seni, kui datat tõmmatakse, sinu javascripti programm ei hangu, vaid käib normaalselt edasi!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Bitstream Vera Sans"/>
              </a:rPr>
              <a:t>Ja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838080" y="372600"/>
            <a:ext cx="7766280" cy="314280"/>
            <a:chOff x="838080" y="372600"/>
            <a:chExt cx="7766280" cy="314280"/>
          </a:xfrm>
        </p:grpSpPr>
        <p:sp>
          <p:nvSpPr>
            <p:cNvPr id="235" name="Line 4"/>
            <p:cNvSpPr/>
            <p:nvPr/>
          </p:nvSpPr>
          <p:spPr>
            <a:xfrm>
              <a:off x="838080" y="6793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Line 5"/>
            <p:cNvSpPr/>
            <p:nvPr/>
          </p:nvSpPr>
          <p:spPr>
            <a:xfrm flipV="1">
              <a:off x="8604360" y="37260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a2sum.html  ajaxiga: rehkendus on serveris!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4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&lt;div id="ans"&gt;&lt;/div&gt;</a:t>
            </a: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get sum:&lt;p&gt;</a:t>
            </a: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&lt;form&gt;</a:t>
            </a: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a &lt;input type='text' id='a'&gt; &lt;br&gt;</a:t>
            </a: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b &lt;input type='text' id='b'&gt; &lt;p&gt;</a:t>
            </a: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&lt;input type='button' onclick='calc()' value='calculate with ajax!'&gt;</a:t>
            </a: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&lt;/form&gt;</a:t>
            </a: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&lt;script&gt;</a:t>
            </a: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function calc() {</a:t>
            </a: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var a,b,url;</a:t>
            </a: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a=document.getElementById('a').value;</a:t>
            </a: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b=document.getElementById('b').value;</a:t>
            </a: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Bitstream Vera Sans"/>
              </a:rPr>
              <a:t>url="/cgi/sum?a="+a+"&amp;b="+b</a:t>
            </a: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Bitstream Vera Sans"/>
              </a:rPr>
              <a:t>fetch(url, {</a:t>
            </a: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Bitstream Vera Sans"/>
              </a:rPr>
              <a:t>method: "get"</a:t>
            </a: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Bitstream Vera Sans"/>
              </a:rPr>
              <a:t>}).then(r=&gt;r.text()).then(handleresult);</a:t>
            </a: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function handleresult(r) {</a:t>
            </a: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document.getElementById('ans').innerHTML="Sum is: "+r;</a:t>
            </a: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&lt;/script&gt;</a:t>
            </a: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39" name="Group 3"/>
          <p:cNvGrpSpPr/>
          <p:nvPr/>
        </p:nvGrpSpPr>
        <p:grpSpPr>
          <a:xfrm>
            <a:off x="838080" y="372600"/>
            <a:ext cx="7766280" cy="314280"/>
            <a:chOff x="838080" y="372600"/>
            <a:chExt cx="7766280" cy="314280"/>
          </a:xfrm>
        </p:grpSpPr>
        <p:sp>
          <p:nvSpPr>
            <p:cNvPr id="240" name="Line 4"/>
            <p:cNvSpPr/>
            <p:nvPr/>
          </p:nvSpPr>
          <p:spPr>
            <a:xfrm>
              <a:off x="838080" y="6793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Line 5"/>
            <p:cNvSpPr/>
            <p:nvPr/>
          </p:nvSpPr>
          <p:spPr>
            <a:xfrm flipV="1">
              <a:off x="8604360" y="37260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JSON ja 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XM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914400"/>
            <a:ext cx="7848720" cy="69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Eelmisel kümnendil muutus XML väga populaarseks andme-esituskeeleks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Seejärel hakati kasutama hulka keerulisi lisatehnoloogiad: XSLT, SOAP, XML Schema, UDDI jne, mis muutsid asja keeruliseks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Seejärel muutus populaarseks JSON kui hulga lihtsam andme-esituskeel: lihtsalt javascripti andmesüntaks, väga sarnane pythoni süntaksile a l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{“nimi“: “Tanel“,  “kursused“: [“itv0010“, “itv100“]}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Praegu kasutatakse mõlemat, aga JSON on palju populaarsem. Laiatarbe-süsteemid a la Google pakuvad enamasti JSON-is andme-esitu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44" name="Group 3"/>
          <p:cNvGrpSpPr/>
          <p:nvPr/>
        </p:nvGrpSpPr>
        <p:grpSpPr>
          <a:xfrm>
            <a:off x="914400" y="296640"/>
            <a:ext cx="7770960" cy="315720"/>
            <a:chOff x="914400" y="296640"/>
            <a:chExt cx="7770960" cy="315720"/>
          </a:xfrm>
        </p:grpSpPr>
        <p:sp>
          <p:nvSpPr>
            <p:cNvPr id="245" name="Line 4"/>
            <p:cNvSpPr/>
            <p:nvPr/>
          </p:nvSpPr>
          <p:spPr>
            <a:xfrm>
              <a:off x="914400" y="60624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Line 5"/>
            <p:cNvSpPr/>
            <p:nvPr/>
          </p:nvSpPr>
          <p:spPr>
            <a:xfrm flipV="1">
              <a:off x="8685360" y="296640"/>
              <a:ext cx="0" cy="315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XML tähendab ...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eXtensible Markup Languag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&lt;tootja&gt;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&lt;nimi&gt;A Le Coq&lt;/nimi&gt;&lt;linn&gt;Tartu&lt;/linn&gt;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&lt;/tootja&gt;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XML on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truktureeritud teksti esitamise formaa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XML standard ütleb, kuidas teksti struktuuri märgistada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Saab kasutada andmete esitamiseks tekstin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L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htne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, aga veidi kohmakas kasutad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XML ei ole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meerimiskeel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49" name="Group 3"/>
          <p:cNvGrpSpPr/>
          <p:nvPr/>
        </p:nvGrpSpPr>
        <p:grpSpPr>
          <a:xfrm>
            <a:off x="838080" y="372600"/>
            <a:ext cx="7766280" cy="314280"/>
            <a:chOff x="838080" y="372600"/>
            <a:chExt cx="7766280" cy="314280"/>
          </a:xfrm>
        </p:grpSpPr>
        <p:sp>
          <p:nvSpPr>
            <p:cNvPr id="250" name="Line 4"/>
            <p:cNvSpPr/>
            <p:nvPr/>
          </p:nvSpPr>
          <p:spPr>
            <a:xfrm>
              <a:off x="838080" y="6793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Line 5"/>
            <p:cNvSpPr/>
            <p:nvPr/>
          </p:nvSpPr>
          <p:spPr>
            <a:xfrm flipV="1">
              <a:off x="8604360" y="37260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JSON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 tähendab ...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Javascript Object Notation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[1,2,“siin on tekst“, [“sisemine“,5], 10]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{“nimi“:“Peeter“,  “pikkus“: 180, “hinded“: [5,3,2] }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JSON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on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Andmete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esitamise formaat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tekstin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Javascripti programmeerimiskeele „native“ andmestruktuur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Väga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lihtne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ja mugav kasutad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Kaasajal brauserirakendustes eelistatum kui XML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JSON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ei ole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grammeerimiskeel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54" name="Group 3"/>
          <p:cNvGrpSpPr/>
          <p:nvPr/>
        </p:nvGrpSpPr>
        <p:grpSpPr>
          <a:xfrm>
            <a:off x="838080" y="372600"/>
            <a:ext cx="7766280" cy="314280"/>
            <a:chOff x="838080" y="372600"/>
            <a:chExt cx="7766280" cy="314280"/>
          </a:xfrm>
        </p:grpSpPr>
        <p:sp>
          <p:nvSpPr>
            <p:cNvPr id="255" name="Line 4"/>
            <p:cNvSpPr/>
            <p:nvPr/>
          </p:nvSpPr>
          <p:spPr>
            <a:xfrm>
              <a:off x="838080" y="6793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Line 5"/>
            <p:cNvSpPr/>
            <p:nvPr/>
          </p:nvSpPr>
          <p:spPr>
            <a:xfrm flipV="1">
              <a:off x="8604360" y="37260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okkuvõte protokollindusest interneti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</a:rPr>
              <a:t>g nad on enamasti kasutatavad ainult selle konkreetse programmeerimiske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2" name="Group 3"/>
          <p:cNvGrpSpPr/>
          <p:nvPr/>
        </p:nvGrpSpPr>
        <p:grpSpPr>
          <a:xfrm>
            <a:off x="838080" y="371520"/>
            <a:ext cx="7769520" cy="318960"/>
            <a:chOff x="838080" y="371520"/>
            <a:chExt cx="7769520" cy="318960"/>
          </a:xfrm>
        </p:grpSpPr>
        <p:sp>
          <p:nvSpPr>
            <p:cNvPr id="63" name="Line 4"/>
            <p:cNvSpPr/>
            <p:nvPr/>
          </p:nvSpPr>
          <p:spPr>
            <a:xfrm>
              <a:off x="838080" y="682560"/>
              <a:ext cx="77677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Line 5"/>
            <p:cNvSpPr/>
            <p:nvPr/>
          </p:nvSpPr>
          <p:spPr>
            <a:xfrm flipV="1">
              <a:off x="8607600" y="371520"/>
              <a:ext cx="0" cy="3189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" name="Group 6"/>
          <p:cNvGrpSpPr/>
          <p:nvPr/>
        </p:nvGrpSpPr>
        <p:grpSpPr>
          <a:xfrm>
            <a:off x="2971800" y="5638680"/>
            <a:ext cx="3579840" cy="455760"/>
            <a:chOff x="2971800" y="5638680"/>
            <a:chExt cx="3579840" cy="455760"/>
          </a:xfrm>
        </p:grpSpPr>
        <p:sp>
          <p:nvSpPr>
            <p:cNvPr id="66" name="AutoShape 7"/>
            <p:cNvSpPr/>
            <p:nvPr/>
          </p:nvSpPr>
          <p:spPr>
            <a:xfrm>
              <a:off x="2971800" y="5638680"/>
              <a:ext cx="3579840" cy="455760"/>
            </a:xfrm>
            <a:prstGeom prst="roundRect">
              <a:avLst>
                <a:gd name="adj" fmla="val 347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AutoShape 8"/>
            <p:cNvSpPr/>
            <p:nvPr/>
          </p:nvSpPr>
          <p:spPr>
            <a:xfrm>
              <a:off x="2971800" y="5638680"/>
              <a:ext cx="3579840" cy="45576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üüsiline kih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8" name="Group 9"/>
          <p:cNvGrpSpPr/>
          <p:nvPr/>
        </p:nvGrpSpPr>
        <p:grpSpPr>
          <a:xfrm>
            <a:off x="2971800" y="5029200"/>
            <a:ext cx="3579840" cy="455760"/>
            <a:chOff x="2971800" y="5029200"/>
            <a:chExt cx="3579840" cy="455760"/>
          </a:xfrm>
        </p:grpSpPr>
        <p:sp>
          <p:nvSpPr>
            <p:cNvPr id="69" name="AutoShape 10"/>
            <p:cNvSpPr/>
            <p:nvPr/>
          </p:nvSpPr>
          <p:spPr>
            <a:xfrm>
              <a:off x="2971800" y="5029200"/>
              <a:ext cx="3579840" cy="455760"/>
            </a:xfrm>
            <a:prstGeom prst="roundRect">
              <a:avLst>
                <a:gd name="adj" fmla="val 347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AutoShape 11"/>
            <p:cNvSpPr/>
            <p:nvPr/>
          </p:nvSpPr>
          <p:spPr>
            <a:xfrm>
              <a:off x="2971800" y="5029200"/>
              <a:ext cx="3579840" cy="45576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Ethernet / SLIP / ...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1" name="Group 12"/>
          <p:cNvGrpSpPr/>
          <p:nvPr/>
        </p:nvGrpSpPr>
        <p:grpSpPr>
          <a:xfrm>
            <a:off x="2895480" y="4038480"/>
            <a:ext cx="3579840" cy="532080"/>
            <a:chOff x="2895480" y="4038480"/>
            <a:chExt cx="3579840" cy="532080"/>
          </a:xfrm>
        </p:grpSpPr>
        <p:sp>
          <p:nvSpPr>
            <p:cNvPr id="72" name="AutoShape 13"/>
            <p:cNvSpPr/>
            <p:nvPr/>
          </p:nvSpPr>
          <p:spPr>
            <a:xfrm>
              <a:off x="2895480" y="4038480"/>
              <a:ext cx="3579840" cy="532080"/>
            </a:xfrm>
            <a:prstGeom prst="roundRect">
              <a:avLst>
                <a:gd name="adj" fmla="val 296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AutoShape 14"/>
            <p:cNvSpPr/>
            <p:nvPr/>
          </p:nvSpPr>
          <p:spPr>
            <a:xfrm>
              <a:off x="2895480" y="4038480"/>
              <a:ext cx="3579840" cy="532080"/>
            </a:xfrm>
            <a:prstGeom prst="roundRect">
              <a:avLst>
                <a:gd name="adj" fmla="val 29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I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2133720" y="2666880"/>
            <a:ext cx="1598400" cy="760680"/>
            <a:chOff x="2133720" y="2666880"/>
            <a:chExt cx="1598400" cy="760680"/>
          </a:xfrm>
        </p:grpSpPr>
        <p:sp>
          <p:nvSpPr>
            <p:cNvPr id="75" name="AutoShape 16"/>
            <p:cNvSpPr/>
            <p:nvPr/>
          </p:nvSpPr>
          <p:spPr>
            <a:xfrm>
              <a:off x="2133720" y="2666880"/>
              <a:ext cx="1598400" cy="760680"/>
            </a:xfrm>
            <a:prstGeom prst="roundRect">
              <a:avLst>
                <a:gd name="adj" fmla="val 208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AutoShape 17"/>
            <p:cNvSpPr/>
            <p:nvPr/>
          </p:nvSpPr>
          <p:spPr>
            <a:xfrm>
              <a:off x="2133720" y="2666880"/>
              <a:ext cx="1598400" cy="760680"/>
            </a:xfrm>
            <a:prstGeom prst="roundRect">
              <a:avLst>
                <a:gd name="adj" fmla="val 20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TC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7" name="Group 18"/>
          <p:cNvGrpSpPr/>
          <p:nvPr/>
        </p:nvGrpSpPr>
        <p:grpSpPr>
          <a:xfrm>
            <a:off x="5562720" y="2743200"/>
            <a:ext cx="1598400" cy="760320"/>
            <a:chOff x="5562720" y="2743200"/>
            <a:chExt cx="1598400" cy="760320"/>
          </a:xfrm>
        </p:grpSpPr>
        <p:sp>
          <p:nvSpPr>
            <p:cNvPr id="78" name="AutoShape 19"/>
            <p:cNvSpPr/>
            <p:nvPr/>
          </p:nvSpPr>
          <p:spPr>
            <a:xfrm>
              <a:off x="5562720" y="2743200"/>
              <a:ext cx="1598400" cy="760320"/>
            </a:xfrm>
            <a:prstGeom prst="roundRect">
              <a:avLst>
                <a:gd name="adj" fmla="val 208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AutoShape 20"/>
            <p:cNvSpPr/>
            <p:nvPr/>
          </p:nvSpPr>
          <p:spPr>
            <a:xfrm>
              <a:off x="5562720" y="2743200"/>
              <a:ext cx="1598400" cy="760320"/>
            </a:xfrm>
            <a:prstGeom prst="roundRect">
              <a:avLst>
                <a:gd name="adj" fmla="val 20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UD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0" name="Group 21"/>
          <p:cNvGrpSpPr/>
          <p:nvPr/>
        </p:nvGrpSpPr>
        <p:grpSpPr>
          <a:xfrm>
            <a:off x="1219320" y="1600200"/>
            <a:ext cx="1065240" cy="684360"/>
            <a:chOff x="1219320" y="1600200"/>
            <a:chExt cx="1065240" cy="684360"/>
          </a:xfrm>
        </p:grpSpPr>
        <p:sp>
          <p:nvSpPr>
            <p:cNvPr id="81" name="AutoShape 22"/>
            <p:cNvSpPr/>
            <p:nvPr/>
          </p:nvSpPr>
          <p:spPr>
            <a:xfrm>
              <a:off x="1219320" y="1600200"/>
              <a:ext cx="1065240" cy="68436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AutoShape 23"/>
            <p:cNvSpPr/>
            <p:nvPr/>
          </p:nvSpPr>
          <p:spPr>
            <a:xfrm>
              <a:off x="1219320" y="1600200"/>
              <a:ext cx="1065240" cy="68436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HTT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" name="Group 24"/>
          <p:cNvGrpSpPr/>
          <p:nvPr/>
        </p:nvGrpSpPr>
        <p:grpSpPr>
          <a:xfrm>
            <a:off x="2438280" y="1600200"/>
            <a:ext cx="1065240" cy="684360"/>
            <a:chOff x="2438280" y="1600200"/>
            <a:chExt cx="1065240" cy="684360"/>
          </a:xfrm>
        </p:grpSpPr>
        <p:sp>
          <p:nvSpPr>
            <p:cNvPr id="84" name="AutoShape 25"/>
            <p:cNvSpPr/>
            <p:nvPr/>
          </p:nvSpPr>
          <p:spPr>
            <a:xfrm>
              <a:off x="2438280" y="1600200"/>
              <a:ext cx="1065240" cy="68436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AutoShape 26"/>
            <p:cNvSpPr/>
            <p:nvPr/>
          </p:nvSpPr>
          <p:spPr>
            <a:xfrm>
              <a:off x="2438280" y="1600200"/>
              <a:ext cx="1065240" cy="68436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SMT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6" name="Group 27"/>
          <p:cNvGrpSpPr/>
          <p:nvPr/>
        </p:nvGrpSpPr>
        <p:grpSpPr>
          <a:xfrm>
            <a:off x="3657600" y="1600200"/>
            <a:ext cx="1065240" cy="684360"/>
            <a:chOff x="3657600" y="1600200"/>
            <a:chExt cx="1065240" cy="684360"/>
          </a:xfrm>
        </p:grpSpPr>
        <p:sp>
          <p:nvSpPr>
            <p:cNvPr id="87" name="AutoShape 28"/>
            <p:cNvSpPr/>
            <p:nvPr/>
          </p:nvSpPr>
          <p:spPr>
            <a:xfrm>
              <a:off x="3657600" y="1600200"/>
              <a:ext cx="1065240" cy="68436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AutoShape 29"/>
            <p:cNvSpPr/>
            <p:nvPr/>
          </p:nvSpPr>
          <p:spPr>
            <a:xfrm>
              <a:off x="3657600" y="1600200"/>
              <a:ext cx="1065240" cy="68436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T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9" name="Group 30"/>
          <p:cNvGrpSpPr/>
          <p:nvPr/>
        </p:nvGrpSpPr>
        <p:grpSpPr>
          <a:xfrm>
            <a:off x="5334120" y="1600200"/>
            <a:ext cx="1065240" cy="684360"/>
            <a:chOff x="5334120" y="1600200"/>
            <a:chExt cx="1065240" cy="684360"/>
          </a:xfrm>
        </p:grpSpPr>
        <p:sp>
          <p:nvSpPr>
            <p:cNvPr id="90" name="AutoShape 31"/>
            <p:cNvSpPr/>
            <p:nvPr/>
          </p:nvSpPr>
          <p:spPr>
            <a:xfrm>
              <a:off x="5334120" y="1600200"/>
              <a:ext cx="1065240" cy="68436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AutoShape 32"/>
            <p:cNvSpPr/>
            <p:nvPr/>
          </p:nvSpPr>
          <p:spPr>
            <a:xfrm>
              <a:off x="5334120" y="1600200"/>
              <a:ext cx="1065240" cy="68436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DN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2" name="Group 33"/>
          <p:cNvGrpSpPr/>
          <p:nvPr/>
        </p:nvGrpSpPr>
        <p:grpSpPr>
          <a:xfrm>
            <a:off x="6705720" y="1600200"/>
            <a:ext cx="1065240" cy="684360"/>
            <a:chOff x="6705720" y="1600200"/>
            <a:chExt cx="1065240" cy="684360"/>
          </a:xfrm>
        </p:grpSpPr>
        <p:sp>
          <p:nvSpPr>
            <p:cNvPr id="93" name="AutoShape 34"/>
            <p:cNvSpPr/>
            <p:nvPr/>
          </p:nvSpPr>
          <p:spPr>
            <a:xfrm>
              <a:off x="6705720" y="1600200"/>
              <a:ext cx="1065240" cy="68436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AutoShape 35"/>
            <p:cNvSpPr/>
            <p:nvPr/>
          </p:nvSpPr>
          <p:spPr>
            <a:xfrm>
              <a:off x="6705720" y="1600200"/>
              <a:ext cx="1065240" cy="68436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NF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5" name="Freeform 36"/>
          <p:cNvSpPr/>
          <p:nvPr/>
        </p:nvSpPr>
        <p:spPr>
          <a:xfrm>
            <a:off x="1344600" y="2379600"/>
            <a:ext cx="6411960" cy="2409840"/>
          </a:xfrm>
          <a:custGeom>
            <a:avLst/>
            <a:gdLst/>
            <a:ahLst/>
            <a:rect l="l" t="t" r="r" b="b"/>
            <a:pathLst>
              <a:path w="17812" h="6692">
                <a:moveTo>
                  <a:pt x="1905" y="524"/>
                </a:moveTo>
                <a:cubicBezTo>
                  <a:pt x="1525" y="577"/>
                  <a:pt x="996" y="688"/>
                  <a:pt x="674" y="899"/>
                </a:cubicBezTo>
                <a:cubicBezTo>
                  <a:pt x="176" y="1230"/>
                  <a:pt x="555" y="1032"/>
                  <a:pt x="224" y="1195"/>
                </a:cubicBezTo>
                <a:cubicBezTo>
                  <a:pt x="110" y="1631"/>
                  <a:pt x="273" y="1045"/>
                  <a:pt x="110" y="1495"/>
                </a:cubicBezTo>
                <a:cubicBezTo>
                  <a:pt x="39" y="1684"/>
                  <a:pt x="52" y="1896"/>
                  <a:pt x="0" y="2095"/>
                </a:cubicBezTo>
                <a:cubicBezTo>
                  <a:pt x="48" y="2694"/>
                  <a:pt x="198" y="3360"/>
                  <a:pt x="710" y="3735"/>
                </a:cubicBezTo>
                <a:cubicBezTo>
                  <a:pt x="811" y="3894"/>
                  <a:pt x="965" y="3965"/>
                  <a:pt x="1084" y="4110"/>
                </a:cubicBezTo>
                <a:cubicBezTo>
                  <a:pt x="1274" y="4340"/>
                  <a:pt x="1349" y="4481"/>
                  <a:pt x="1644" y="4560"/>
                </a:cubicBezTo>
                <a:cubicBezTo>
                  <a:pt x="1812" y="4670"/>
                  <a:pt x="1962" y="4820"/>
                  <a:pt x="2130" y="4931"/>
                </a:cubicBezTo>
                <a:cubicBezTo>
                  <a:pt x="2306" y="5050"/>
                  <a:pt x="2557" y="5059"/>
                  <a:pt x="2725" y="5195"/>
                </a:cubicBezTo>
                <a:cubicBezTo>
                  <a:pt x="2972" y="5398"/>
                  <a:pt x="3192" y="5689"/>
                  <a:pt x="3510" y="5791"/>
                </a:cubicBezTo>
                <a:cubicBezTo>
                  <a:pt x="3730" y="5936"/>
                  <a:pt x="4035" y="6042"/>
                  <a:pt x="4295" y="6091"/>
                </a:cubicBezTo>
                <a:cubicBezTo>
                  <a:pt x="4520" y="6316"/>
                  <a:pt x="4608" y="6271"/>
                  <a:pt x="4930" y="6316"/>
                </a:cubicBezTo>
                <a:cubicBezTo>
                  <a:pt x="5472" y="6483"/>
                  <a:pt x="4864" y="6307"/>
                  <a:pt x="6350" y="6426"/>
                </a:cubicBezTo>
                <a:cubicBezTo>
                  <a:pt x="6575" y="6444"/>
                  <a:pt x="6756" y="6642"/>
                  <a:pt x="6985" y="6651"/>
                </a:cubicBezTo>
                <a:cubicBezTo>
                  <a:pt x="7633" y="6673"/>
                  <a:pt x="8281" y="6677"/>
                  <a:pt x="8930" y="6691"/>
                </a:cubicBezTo>
                <a:cubicBezTo>
                  <a:pt x="10707" y="6616"/>
                  <a:pt x="12449" y="6426"/>
                  <a:pt x="14231" y="6391"/>
                </a:cubicBezTo>
                <a:cubicBezTo>
                  <a:pt x="14469" y="6307"/>
                  <a:pt x="14729" y="6276"/>
                  <a:pt x="14980" y="6241"/>
                </a:cubicBezTo>
                <a:cubicBezTo>
                  <a:pt x="15364" y="6047"/>
                  <a:pt x="14901" y="6267"/>
                  <a:pt x="15280" y="6126"/>
                </a:cubicBezTo>
                <a:cubicBezTo>
                  <a:pt x="15412" y="6077"/>
                  <a:pt x="15518" y="5989"/>
                  <a:pt x="15651" y="5941"/>
                </a:cubicBezTo>
                <a:cubicBezTo>
                  <a:pt x="15862" y="5632"/>
                  <a:pt x="16286" y="5526"/>
                  <a:pt x="16621" y="5420"/>
                </a:cubicBezTo>
                <a:cubicBezTo>
                  <a:pt x="16735" y="5385"/>
                  <a:pt x="16846" y="5345"/>
                  <a:pt x="16960" y="5306"/>
                </a:cubicBezTo>
                <a:cubicBezTo>
                  <a:pt x="17044" y="5275"/>
                  <a:pt x="17185" y="5156"/>
                  <a:pt x="17185" y="5156"/>
                </a:cubicBezTo>
                <a:cubicBezTo>
                  <a:pt x="17811" y="4176"/>
                  <a:pt x="17256" y="1627"/>
                  <a:pt x="17256" y="1534"/>
                </a:cubicBezTo>
                <a:cubicBezTo>
                  <a:pt x="17247" y="1160"/>
                  <a:pt x="16965" y="846"/>
                  <a:pt x="16621" y="710"/>
                </a:cubicBezTo>
                <a:cubicBezTo>
                  <a:pt x="16039" y="127"/>
                  <a:pt x="15915" y="476"/>
                  <a:pt x="14605" y="449"/>
                </a:cubicBezTo>
                <a:cubicBezTo>
                  <a:pt x="14522" y="189"/>
                  <a:pt x="14173" y="269"/>
                  <a:pt x="13935" y="264"/>
                </a:cubicBezTo>
                <a:cubicBezTo>
                  <a:pt x="11695" y="242"/>
                  <a:pt x="9450" y="238"/>
                  <a:pt x="7210" y="224"/>
                </a:cubicBezTo>
                <a:cubicBezTo>
                  <a:pt x="7130" y="0"/>
                  <a:pt x="6981" y="176"/>
                  <a:pt x="6800" y="189"/>
                </a:cubicBezTo>
                <a:cubicBezTo>
                  <a:pt x="6500" y="211"/>
                  <a:pt x="6200" y="211"/>
                  <a:pt x="5900" y="224"/>
                </a:cubicBezTo>
                <a:cubicBezTo>
                  <a:pt x="5014" y="383"/>
                  <a:pt x="5984" y="224"/>
                  <a:pt x="3735" y="224"/>
                </a:cubicBezTo>
                <a:cubicBezTo>
                  <a:pt x="3435" y="224"/>
                  <a:pt x="3139" y="286"/>
                  <a:pt x="2840" y="299"/>
                </a:cubicBezTo>
                <a:cubicBezTo>
                  <a:pt x="2676" y="352"/>
                  <a:pt x="2487" y="427"/>
                  <a:pt x="2315" y="449"/>
                </a:cubicBezTo>
                <a:cubicBezTo>
                  <a:pt x="1869" y="507"/>
                  <a:pt x="1768" y="370"/>
                  <a:pt x="1905" y="524"/>
                </a:cubicBezTo>
              </a:path>
            </a:pathLst>
          </a:cu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Line 37"/>
          <p:cNvSpPr/>
          <p:nvPr/>
        </p:nvSpPr>
        <p:spPr>
          <a:xfrm flipV="1">
            <a:off x="1066680" y="4026960"/>
            <a:ext cx="838440" cy="131796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AutoShape 38"/>
          <p:cNvSpPr/>
          <p:nvPr/>
        </p:nvSpPr>
        <p:spPr>
          <a:xfrm>
            <a:off x="123840" y="5410080"/>
            <a:ext cx="3171600" cy="892800"/>
          </a:xfrm>
          <a:prstGeom prst="roundRect">
            <a:avLst>
              <a:gd name="adj" fmla="val 17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terneti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õhiosa, reegli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psüsteemi sisse ehitatu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Line 39"/>
          <p:cNvSpPr/>
          <p:nvPr/>
        </p:nvSpPr>
        <p:spPr>
          <a:xfrm flipH="1" flipV="1">
            <a:off x="3189240" y="3494160"/>
            <a:ext cx="403200" cy="40320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Line 40"/>
          <p:cNvSpPr/>
          <p:nvPr/>
        </p:nvSpPr>
        <p:spPr>
          <a:xfrm flipV="1">
            <a:off x="5410080" y="3569760"/>
            <a:ext cx="381240" cy="3272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Line 41"/>
          <p:cNvSpPr/>
          <p:nvPr/>
        </p:nvSpPr>
        <p:spPr>
          <a:xfrm flipV="1">
            <a:off x="6629400" y="2351160"/>
            <a:ext cx="380880" cy="32688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Line 42"/>
          <p:cNvSpPr/>
          <p:nvPr/>
        </p:nvSpPr>
        <p:spPr>
          <a:xfrm flipH="1" flipV="1">
            <a:off x="6008400" y="2351160"/>
            <a:ext cx="174600" cy="32688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Line 43"/>
          <p:cNvSpPr/>
          <p:nvPr/>
        </p:nvSpPr>
        <p:spPr>
          <a:xfrm flipH="1" flipV="1">
            <a:off x="2122200" y="2274480"/>
            <a:ext cx="174600" cy="3272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Line 44"/>
          <p:cNvSpPr/>
          <p:nvPr/>
        </p:nvSpPr>
        <p:spPr>
          <a:xfrm flipV="1">
            <a:off x="2895480" y="2350800"/>
            <a:ext cx="1800" cy="2509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Line 45"/>
          <p:cNvSpPr/>
          <p:nvPr/>
        </p:nvSpPr>
        <p:spPr>
          <a:xfrm flipV="1">
            <a:off x="3429000" y="2274480"/>
            <a:ext cx="304920" cy="3272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Line 46"/>
          <p:cNvSpPr/>
          <p:nvPr/>
        </p:nvSpPr>
        <p:spPr>
          <a:xfrm flipV="1">
            <a:off x="4648320" y="4637160"/>
            <a:ext cx="1440" cy="32688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Line 47"/>
          <p:cNvSpPr/>
          <p:nvPr/>
        </p:nvSpPr>
        <p:spPr>
          <a:xfrm flipV="1">
            <a:off x="4648320" y="5474880"/>
            <a:ext cx="1440" cy="17460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Line 48"/>
          <p:cNvSpPr/>
          <p:nvPr/>
        </p:nvSpPr>
        <p:spPr>
          <a:xfrm flipH="1">
            <a:off x="6618240" y="5334120"/>
            <a:ext cx="860400" cy="144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AutoShape 49"/>
          <p:cNvSpPr/>
          <p:nvPr/>
        </p:nvSpPr>
        <p:spPr>
          <a:xfrm>
            <a:off x="7446960" y="4267080"/>
            <a:ext cx="1933920" cy="1956960"/>
          </a:xfrm>
          <a:custGeom>
            <a:avLst/>
            <a:gdLst>
              <a:gd name="textAreaLeft" fmla="*/ 360 w 1933920"/>
              <a:gd name="textAreaRight" fmla="*/ 1933560 w 1933920"/>
              <a:gd name="textAreaTop" fmla="*/ 360 h 1956960"/>
              <a:gd name="textAreaBottom" fmla="*/ 1956600 h 1956960"/>
            </a:gdLst>
            <a:ahLst/>
            <a:rect l="textAreaLeft" t="textAreaTop" r="textAreaRight" b="textAreaBottom"/>
            <a:pathLst>
              <a:path w="21600" h="21857">
                <a:moveTo>
                  <a:pt x="20" y="0"/>
                </a:moveTo>
                <a:arcTo wR="20" hR="20" stAng="16200000" swAng="-5400000"/>
                <a:lnTo>
                  <a:pt x="0" y="21837"/>
                </a:lnTo>
                <a:arcTo wR="20" hR="20" stAng="10800000" swAng="-5400000"/>
                <a:lnTo>
                  <a:pt x="21580" y="21857"/>
                </a:lnTo>
                <a:arcTo wR="20" hR="20" stAng="5400000" swAng="-5400000"/>
                <a:lnTo>
                  <a:pt x="21600" y="20"/>
                </a:lnTo>
                <a:arcTo wR="20" hR="2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htvõrk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ood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ms, tüüpilise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psüsteem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aetav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ardi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raiveriteg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Freeform 50"/>
          <p:cNvSpPr/>
          <p:nvPr/>
        </p:nvSpPr>
        <p:spPr>
          <a:xfrm>
            <a:off x="887400" y="1157400"/>
            <a:ext cx="7292880" cy="1249200"/>
          </a:xfrm>
          <a:custGeom>
            <a:avLst/>
            <a:gdLst/>
            <a:ahLst/>
            <a:rect l="l" t="t" r="r" b="b"/>
            <a:pathLst>
              <a:path w="20259" h="3471">
                <a:moveTo>
                  <a:pt x="449" y="820"/>
                </a:moveTo>
                <a:cubicBezTo>
                  <a:pt x="317" y="1014"/>
                  <a:pt x="141" y="1142"/>
                  <a:pt x="74" y="1380"/>
                </a:cubicBezTo>
                <a:cubicBezTo>
                  <a:pt x="44" y="1490"/>
                  <a:pt x="0" y="1715"/>
                  <a:pt x="0" y="1715"/>
                </a:cubicBezTo>
                <a:cubicBezTo>
                  <a:pt x="26" y="1940"/>
                  <a:pt x="26" y="2169"/>
                  <a:pt x="74" y="2390"/>
                </a:cubicBezTo>
                <a:cubicBezTo>
                  <a:pt x="114" y="2562"/>
                  <a:pt x="189" y="2518"/>
                  <a:pt x="299" y="2575"/>
                </a:cubicBezTo>
                <a:cubicBezTo>
                  <a:pt x="476" y="2663"/>
                  <a:pt x="582" y="2840"/>
                  <a:pt x="745" y="2950"/>
                </a:cubicBezTo>
                <a:cubicBezTo>
                  <a:pt x="1093" y="3466"/>
                  <a:pt x="2152" y="3422"/>
                  <a:pt x="2650" y="3435"/>
                </a:cubicBezTo>
                <a:cubicBezTo>
                  <a:pt x="3474" y="3457"/>
                  <a:pt x="4295" y="3457"/>
                  <a:pt x="5119" y="3470"/>
                </a:cubicBezTo>
                <a:cubicBezTo>
                  <a:pt x="9988" y="3422"/>
                  <a:pt x="14856" y="3351"/>
                  <a:pt x="19725" y="3321"/>
                </a:cubicBezTo>
                <a:cubicBezTo>
                  <a:pt x="19862" y="3228"/>
                  <a:pt x="20095" y="2985"/>
                  <a:pt x="20095" y="2985"/>
                </a:cubicBezTo>
                <a:cubicBezTo>
                  <a:pt x="20258" y="2580"/>
                  <a:pt x="20210" y="2412"/>
                  <a:pt x="20170" y="1900"/>
                </a:cubicBezTo>
                <a:cubicBezTo>
                  <a:pt x="20166" y="1870"/>
                  <a:pt x="20122" y="1517"/>
                  <a:pt x="20095" y="1455"/>
                </a:cubicBezTo>
                <a:cubicBezTo>
                  <a:pt x="19932" y="1107"/>
                  <a:pt x="19959" y="1230"/>
                  <a:pt x="19760" y="1005"/>
                </a:cubicBezTo>
                <a:cubicBezTo>
                  <a:pt x="19663" y="890"/>
                  <a:pt x="19632" y="793"/>
                  <a:pt x="19500" y="705"/>
                </a:cubicBezTo>
                <a:cubicBezTo>
                  <a:pt x="19165" y="485"/>
                  <a:pt x="18900" y="511"/>
                  <a:pt x="18490" y="485"/>
                </a:cubicBezTo>
                <a:cubicBezTo>
                  <a:pt x="17767" y="224"/>
                  <a:pt x="18486" y="471"/>
                  <a:pt x="16435" y="410"/>
                </a:cubicBezTo>
                <a:cubicBezTo>
                  <a:pt x="15747" y="388"/>
                  <a:pt x="15064" y="330"/>
                  <a:pt x="14380" y="295"/>
                </a:cubicBezTo>
                <a:cubicBezTo>
                  <a:pt x="11593" y="0"/>
                  <a:pt x="12096" y="229"/>
                  <a:pt x="6575" y="260"/>
                </a:cubicBezTo>
                <a:cubicBezTo>
                  <a:pt x="5737" y="392"/>
                  <a:pt x="4881" y="401"/>
                  <a:pt x="4035" y="445"/>
                </a:cubicBezTo>
                <a:cubicBezTo>
                  <a:pt x="3743" y="524"/>
                  <a:pt x="3439" y="516"/>
                  <a:pt x="3139" y="560"/>
                </a:cubicBezTo>
                <a:cubicBezTo>
                  <a:pt x="2725" y="617"/>
                  <a:pt x="2319" y="692"/>
                  <a:pt x="1905" y="745"/>
                </a:cubicBezTo>
                <a:cubicBezTo>
                  <a:pt x="1411" y="904"/>
                  <a:pt x="952" y="890"/>
                  <a:pt x="449" y="820"/>
                </a:cubicBezTo>
              </a:path>
            </a:pathLst>
          </a:custGeom>
          <a:noFill/>
          <a:ln w="25560">
            <a:solidFill>
              <a:srgbClr val="3333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Line 51"/>
          <p:cNvSpPr/>
          <p:nvPr/>
        </p:nvSpPr>
        <p:spPr>
          <a:xfrm flipV="1">
            <a:off x="609480" y="2274480"/>
            <a:ext cx="609840" cy="63180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52"/>
          <p:cNvSpPr/>
          <p:nvPr/>
        </p:nvSpPr>
        <p:spPr>
          <a:xfrm>
            <a:off x="0" y="2895480"/>
            <a:ext cx="2057400" cy="16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ternet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akendus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ma protokollid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üüpilise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raldi rakendus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id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õrguteenus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4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bleem:  raske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n teha programm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, mis loeks teisest serverist HTML-lehekülgi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ja leiaks nende sisust kergesti vajaliku info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336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Lahendus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: teeme võrgulehekülgi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lihtsalt andmetekstina jsonis või xmlis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ii et programm teises arvutis suudaks neid lugeda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59" name="Group 3"/>
          <p:cNvGrpSpPr/>
          <p:nvPr/>
        </p:nvGrpSpPr>
        <p:grpSpPr>
          <a:xfrm>
            <a:off x="914400" y="296640"/>
            <a:ext cx="7770960" cy="315720"/>
            <a:chOff x="914400" y="296640"/>
            <a:chExt cx="7770960" cy="315720"/>
          </a:xfrm>
        </p:grpSpPr>
        <p:sp>
          <p:nvSpPr>
            <p:cNvPr id="260" name="Line 4"/>
            <p:cNvSpPr/>
            <p:nvPr/>
          </p:nvSpPr>
          <p:spPr>
            <a:xfrm>
              <a:off x="914400" y="60624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Line 5"/>
            <p:cNvSpPr/>
            <p:nvPr/>
          </p:nvSpPr>
          <p:spPr>
            <a:xfrm flipV="1">
              <a:off x="8685360" y="296640"/>
              <a:ext cx="0" cy="3157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2" name="Group 6"/>
          <p:cNvGrpSpPr/>
          <p:nvPr/>
        </p:nvGrpSpPr>
        <p:grpSpPr>
          <a:xfrm>
            <a:off x="1905120" y="3962520"/>
            <a:ext cx="455400" cy="531720"/>
            <a:chOff x="1905120" y="3962520"/>
            <a:chExt cx="455400" cy="531720"/>
          </a:xfrm>
        </p:grpSpPr>
        <p:sp>
          <p:nvSpPr>
            <p:cNvPr id="263" name="Freeform 7"/>
            <p:cNvSpPr/>
            <p:nvPr/>
          </p:nvSpPr>
          <p:spPr>
            <a:xfrm>
              <a:off x="1905120" y="3962520"/>
              <a:ext cx="455400" cy="531720"/>
            </a:xfrm>
            <a:custGeom>
              <a:avLst/>
              <a:gdLst/>
              <a:ahLst/>
              <a:rect l="l" t="t" r="r" b="b"/>
              <a:pathLst>
                <a:path w="1271" h="1482">
                  <a:moveTo>
                    <a:pt x="635" y="0"/>
                  </a:moveTo>
                  <a:cubicBezTo>
                    <a:pt x="995" y="0"/>
                    <a:pt x="1270" y="320"/>
                    <a:pt x="1270" y="740"/>
                  </a:cubicBezTo>
                  <a:cubicBezTo>
                    <a:pt x="1270" y="1160"/>
                    <a:pt x="995" y="1481"/>
                    <a:pt x="635" y="1481"/>
                  </a:cubicBezTo>
                  <a:cubicBezTo>
                    <a:pt x="275" y="1481"/>
                    <a:pt x="0" y="1160"/>
                    <a:pt x="0" y="740"/>
                  </a:cubicBezTo>
                  <a:cubicBezTo>
                    <a:pt x="0" y="320"/>
                    <a:pt x="275" y="0"/>
                    <a:pt x="635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Freeform 8"/>
            <p:cNvSpPr/>
            <p:nvPr/>
          </p:nvSpPr>
          <p:spPr>
            <a:xfrm>
              <a:off x="2035080" y="4119480"/>
              <a:ext cx="47880" cy="5724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Freeform 9"/>
            <p:cNvSpPr/>
            <p:nvPr/>
          </p:nvSpPr>
          <p:spPr>
            <a:xfrm>
              <a:off x="2182680" y="4119480"/>
              <a:ext cx="47880" cy="5724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68" y="0"/>
                  </a:moveTo>
                  <a:cubicBezTo>
                    <a:pt x="107" y="0"/>
                    <a:pt x="137" y="35"/>
                    <a:pt x="137" y="80"/>
                  </a:cubicBezTo>
                  <a:cubicBezTo>
                    <a:pt x="137" y="125"/>
                    <a:pt x="107" y="160"/>
                    <a:pt x="68" y="160"/>
                  </a:cubicBezTo>
                  <a:cubicBezTo>
                    <a:pt x="29" y="160"/>
                    <a:pt x="0" y="125"/>
                    <a:pt x="0" y="80"/>
                  </a:cubicBezTo>
                  <a:cubicBezTo>
                    <a:pt x="0" y="35"/>
                    <a:pt x="29" y="0"/>
                    <a:pt x="6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Freeform 10"/>
            <p:cNvSpPr/>
            <p:nvPr/>
          </p:nvSpPr>
          <p:spPr>
            <a:xfrm>
              <a:off x="2008080" y="4344840"/>
              <a:ext cx="250920" cy="49320"/>
            </a:xfrm>
            <a:custGeom>
              <a:avLst/>
              <a:gdLst/>
              <a:ahLst/>
              <a:rect l="l" t="t" r="r" b="b"/>
              <a:pathLst>
                <a:path w="699" h="139">
                  <a:moveTo>
                    <a:pt x="0" y="0"/>
                  </a:moveTo>
                  <a:cubicBezTo>
                    <a:pt x="224" y="138"/>
                    <a:pt x="474" y="138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67" name="Picture 11" descr=""/>
          <p:cNvPicPr/>
          <p:nvPr/>
        </p:nvPicPr>
        <p:blipFill>
          <a:blip r:embed="rId1"/>
          <a:stretch/>
        </p:blipFill>
        <p:spPr>
          <a:xfrm>
            <a:off x="4419720" y="3809880"/>
            <a:ext cx="385560" cy="67644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2" descr=""/>
          <p:cNvPicPr/>
          <p:nvPr/>
        </p:nvPicPr>
        <p:blipFill>
          <a:blip r:embed="rId2"/>
          <a:stretch/>
        </p:blipFill>
        <p:spPr>
          <a:xfrm>
            <a:off x="6477120" y="2895480"/>
            <a:ext cx="385560" cy="6764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3" descr=""/>
          <p:cNvPicPr/>
          <p:nvPr/>
        </p:nvPicPr>
        <p:blipFill>
          <a:blip r:embed="rId3"/>
          <a:stretch/>
        </p:blipFill>
        <p:spPr>
          <a:xfrm>
            <a:off x="6400800" y="4648320"/>
            <a:ext cx="385920" cy="676080"/>
          </a:xfrm>
          <a:prstGeom prst="rect">
            <a:avLst/>
          </a:prstGeom>
          <a:ln w="0">
            <a:noFill/>
          </a:ln>
        </p:spPr>
      </p:pic>
      <p:sp>
        <p:nvSpPr>
          <p:cNvPr id="270" name="AutoShape 14"/>
          <p:cNvSpPr/>
          <p:nvPr/>
        </p:nvSpPr>
        <p:spPr>
          <a:xfrm>
            <a:off x="6048360" y="5638680"/>
            <a:ext cx="1554480" cy="338040"/>
          </a:xfrm>
          <a:prstGeom prst="roundRect">
            <a:avLst>
              <a:gd name="adj" fmla="val 46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aasteenus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AutoShape 15"/>
          <p:cNvSpPr/>
          <p:nvPr/>
        </p:nvSpPr>
        <p:spPr>
          <a:xfrm>
            <a:off x="3810600" y="4648320"/>
            <a:ext cx="1744920" cy="338040"/>
          </a:xfrm>
          <a:prstGeom prst="roundRect">
            <a:avLst>
              <a:gd name="adj" fmla="val 46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Kuvamis-teenu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Line 16"/>
          <p:cNvSpPr/>
          <p:nvPr/>
        </p:nvSpPr>
        <p:spPr>
          <a:xfrm>
            <a:off x="2514600" y="4114800"/>
            <a:ext cx="1752480" cy="144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Line 17"/>
          <p:cNvSpPr/>
          <p:nvPr/>
        </p:nvSpPr>
        <p:spPr>
          <a:xfrm flipV="1">
            <a:off x="4952880" y="3267000"/>
            <a:ext cx="1447920" cy="7812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Line 18"/>
          <p:cNvSpPr/>
          <p:nvPr/>
        </p:nvSpPr>
        <p:spPr>
          <a:xfrm>
            <a:off x="5105520" y="4191120"/>
            <a:ext cx="1143000" cy="5331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Text Box 19"/>
          <p:cNvSpPr/>
          <p:nvPr/>
        </p:nvSpPr>
        <p:spPr>
          <a:xfrm>
            <a:off x="4983120" y="3029040"/>
            <a:ext cx="10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600" spc="-1" strike="noStrike">
                <a:solidFill>
                  <a:srgbClr val="cc0000"/>
                </a:solidFill>
                <a:latin typeface="Arial"/>
              </a:rPr>
              <a:t>JS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Text Box 20"/>
          <p:cNvSpPr/>
          <p:nvPr/>
        </p:nvSpPr>
        <p:spPr>
          <a:xfrm>
            <a:off x="5638680" y="4114800"/>
            <a:ext cx="96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600" spc="-1" strike="noStrike">
                <a:solidFill>
                  <a:srgbClr val="cc0000"/>
                </a:solidFill>
                <a:latin typeface="Arial"/>
              </a:rPr>
              <a:t>JS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Text Box 21"/>
          <p:cNvSpPr/>
          <p:nvPr/>
        </p:nvSpPr>
        <p:spPr>
          <a:xfrm>
            <a:off x="2971800" y="3657600"/>
            <a:ext cx="100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</a:rPr>
              <a:t>HTM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Front-end tehnoloogiastack on päris keeruline: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457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80" name="Group 3"/>
          <p:cNvGrpSpPr/>
          <p:nvPr/>
        </p:nvGrpSpPr>
        <p:grpSpPr>
          <a:xfrm>
            <a:off x="838080" y="372600"/>
            <a:ext cx="7766280" cy="314280"/>
            <a:chOff x="838080" y="372600"/>
            <a:chExt cx="7766280" cy="314280"/>
          </a:xfrm>
        </p:grpSpPr>
        <p:sp>
          <p:nvSpPr>
            <p:cNvPr id="281" name="Line 4"/>
            <p:cNvSpPr/>
            <p:nvPr/>
          </p:nvSpPr>
          <p:spPr>
            <a:xfrm>
              <a:off x="838080" y="6793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Line 5"/>
            <p:cNvSpPr/>
            <p:nvPr/>
          </p:nvSpPr>
          <p:spPr>
            <a:xfrm flipV="1">
              <a:off x="8604360" y="37260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2514600" y="890640"/>
            <a:ext cx="4835520" cy="5967360"/>
          </a:xfrm>
          <a:prstGeom prst="rect">
            <a:avLst/>
          </a:prstGeom>
          <a:ln w="0">
            <a:noFill/>
          </a:ln>
        </p:spPr>
      </p:pic>
      <p:sp>
        <p:nvSpPr>
          <p:cNvPr id="284" name="Rectangle 3"/>
          <p:cNvSpPr/>
          <p:nvPr/>
        </p:nvSpPr>
        <p:spPr>
          <a:xfrm>
            <a:off x="325440" y="83340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https://codeburst.io/the-2018-web-developer-roadmap-826b1b806e8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ja back-end (serverirakendus) samuti: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4572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87" name="Group 3"/>
          <p:cNvGrpSpPr/>
          <p:nvPr/>
        </p:nvGrpSpPr>
        <p:grpSpPr>
          <a:xfrm>
            <a:off x="838080" y="372600"/>
            <a:ext cx="7766280" cy="314280"/>
            <a:chOff x="838080" y="372600"/>
            <a:chExt cx="7766280" cy="314280"/>
          </a:xfrm>
        </p:grpSpPr>
        <p:sp>
          <p:nvSpPr>
            <p:cNvPr id="288" name="Line 4"/>
            <p:cNvSpPr/>
            <p:nvPr/>
          </p:nvSpPr>
          <p:spPr>
            <a:xfrm>
              <a:off x="838080" y="6793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Line 5"/>
            <p:cNvSpPr/>
            <p:nvPr/>
          </p:nvSpPr>
          <p:spPr>
            <a:xfrm flipV="1">
              <a:off x="8604360" y="37260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90" name="Picture 3" descr=""/>
          <p:cNvPicPr/>
          <p:nvPr/>
        </p:nvPicPr>
        <p:blipFill>
          <a:blip r:embed="rId1"/>
          <a:stretch/>
        </p:blipFill>
        <p:spPr>
          <a:xfrm>
            <a:off x="2819520" y="884160"/>
            <a:ext cx="4114800" cy="597384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8"/>
          <p:cNvSpPr/>
          <p:nvPr/>
        </p:nvSpPr>
        <p:spPr>
          <a:xfrm>
            <a:off x="325440" y="83340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https://codeburst.io/the-2018-web-developer-roadmap-826b1b806e8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HTTP ühendused: failide küsimine ja nende andm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TTP on omaette protokoll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 TCP peal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, mida kasutatakse veebilehtede, piltide, tekstifailide, zip failide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, jsoni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jne jne saatmiseks veebiserveri ja brauseri vahel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4" name="AutoShape 3"/>
          <p:cNvSpPr/>
          <p:nvPr/>
        </p:nvSpPr>
        <p:spPr>
          <a:xfrm>
            <a:off x="1276200" y="2579760"/>
            <a:ext cx="1905120" cy="1600200"/>
          </a:xfrm>
          <a:prstGeom prst="roundRect">
            <a:avLst>
              <a:gd name="adj" fmla="val 97"/>
            </a:avLst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6851520" y="3735360"/>
            <a:ext cx="1940760" cy="1920960"/>
            <a:chOff x="6851520" y="3735360"/>
            <a:chExt cx="1940760" cy="1920960"/>
          </a:xfrm>
        </p:grpSpPr>
        <p:sp>
          <p:nvSpPr>
            <p:cNvPr id="116" name="AutoShape 5"/>
            <p:cNvSpPr/>
            <p:nvPr/>
          </p:nvSpPr>
          <p:spPr>
            <a:xfrm>
              <a:off x="6851520" y="3753000"/>
              <a:ext cx="1892160" cy="1903320"/>
            </a:xfrm>
            <a:custGeom>
              <a:avLst/>
              <a:gdLst>
                <a:gd name="textAreaLeft" fmla="*/ 360 w 1892160"/>
                <a:gd name="textAreaRight" fmla="*/ 1891800 w 1892160"/>
                <a:gd name="textAreaTop" fmla="*/ 360 h 1903320"/>
                <a:gd name="textAreaBottom" fmla="*/ 1902960 h 1903320"/>
              </a:gdLst>
              <a:ahLst/>
              <a:rect l="textAreaLeft" t="textAreaTop" r="textAreaRight" b="textAreaBottom"/>
              <a:pathLst>
                <a:path w="21600" h="21727">
                  <a:moveTo>
                    <a:pt x="21" y="0"/>
                  </a:moveTo>
                  <a:arcTo wR="21" hR="21" stAng="16200000" swAng="-5400000"/>
                  <a:lnTo>
                    <a:pt x="0" y="21706"/>
                  </a:lnTo>
                  <a:arcTo wR="21" hR="21" stAng="10800000" swAng="-5400000"/>
                  <a:lnTo>
                    <a:pt x="21579" y="21727"/>
                  </a:lnTo>
                  <a:arcTo wR="21" hR="21" stAng="5400000" swAng="-5400000"/>
                  <a:lnTo>
                    <a:pt x="21600" y="21"/>
                  </a:lnTo>
                  <a:arcTo wR="21" hR="21" stAng="0" swAng="-5400000"/>
                  <a:close/>
                </a:path>
              </a:pathLst>
            </a:cu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AutoShape 6"/>
            <p:cNvSpPr/>
            <p:nvPr/>
          </p:nvSpPr>
          <p:spPr>
            <a:xfrm>
              <a:off x="6899760" y="3735360"/>
              <a:ext cx="1892520" cy="1903680"/>
            </a:xfrm>
            <a:custGeom>
              <a:avLst/>
              <a:gdLst>
                <a:gd name="textAreaLeft" fmla="*/ 360 w 1892520"/>
                <a:gd name="textAreaRight" fmla="*/ 1892160 w 1892520"/>
                <a:gd name="textAreaTop" fmla="*/ 360 h 1903680"/>
                <a:gd name="textAreaBottom" fmla="*/ 1903320 h 1903680"/>
              </a:gdLst>
              <a:ahLst/>
              <a:rect l="textAreaLeft" t="textAreaTop" r="textAreaRight" b="textAreaBottom"/>
              <a:pathLst>
                <a:path w="21600" h="21727">
                  <a:moveTo>
                    <a:pt x="21" y="0"/>
                  </a:moveTo>
                  <a:arcTo wR="21" hR="21" stAng="16200000" swAng="-5400000"/>
                  <a:lnTo>
                    <a:pt x="0" y="21706"/>
                  </a:lnTo>
                  <a:arcTo wR="21" hR="21" stAng="10800000" swAng="-5400000"/>
                  <a:lnTo>
                    <a:pt x="21579" y="21727"/>
                  </a:lnTo>
                  <a:arcTo wR="21" hR="21" stAng="5400000" swAng="-5400000"/>
                  <a:lnTo>
                    <a:pt x="21600" y="21"/>
                  </a:lnTo>
                  <a:arcTo wR="21" hR="21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Bitstream Vera Sans"/>
                </a:rPr>
                <a:t>Kli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Bitstream Vera Sans"/>
                </a:rPr>
                <a:t>(brauser)</a:t>
              </a:r>
              <a:r>
                <a:rPr b="0" lang="ar-SA" sz="2400" spc="-1" strike="noStrike">
                  <a:solidFill>
                    <a:srgbClr val="000000"/>
                  </a:solidFill>
                  <a:latin typeface="Bitstream Vera Sans"/>
                  <a:ea typeface="Arial"/>
                </a:rPr>
                <a:t>‏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Bitstream Vera Sans"/>
                </a:rPr>
                <a:t>küsib fai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t-EE" sz="2400" spc="-1" strike="noStrike">
                  <a:solidFill>
                    <a:srgbClr val="000000"/>
                  </a:solidFill>
                  <a:latin typeface="Bitstream Vera Sans"/>
                </a:rPr>
                <a:t>või saada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t-EE" sz="2400" spc="-1" strike="noStrike">
                  <a:solidFill>
                    <a:srgbClr val="000000"/>
                  </a:solidFill>
                  <a:latin typeface="Bitstream Vera Sans"/>
                </a:rPr>
                <a:t>andmei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8" name="AutoShape 7"/>
          <p:cNvSpPr/>
          <p:nvPr/>
        </p:nvSpPr>
        <p:spPr>
          <a:xfrm>
            <a:off x="1316880" y="2754360"/>
            <a:ext cx="2019240" cy="1276920"/>
          </a:xfrm>
          <a:prstGeom prst="roundRect">
            <a:avLst>
              <a:gd name="adj" fmla="val 15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erver anna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v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õrgulehti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(faile)</a:t>
            </a:r>
            <a:r>
              <a:rPr b="0" lang="ar-SA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 võ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muid andme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Line 8"/>
          <p:cNvSpPr/>
          <p:nvPr/>
        </p:nvSpPr>
        <p:spPr>
          <a:xfrm flipH="1" flipV="1">
            <a:off x="3478320" y="3047760"/>
            <a:ext cx="3162240" cy="92556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AutoShape 9"/>
          <p:cNvSpPr/>
          <p:nvPr/>
        </p:nvSpPr>
        <p:spPr>
          <a:xfrm>
            <a:off x="4831920" y="2514600"/>
            <a:ext cx="4104360" cy="626760"/>
          </a:xfrm>
          <a:prstGeom prst="roundRect">
            <a:avLst>
              <a:gd name="adj" fmla="val 2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 protokolliga päring üle TCP/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rveri porti (tüüpiliselt 80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AutoShape 10"/>
          <p:cNvSpPr/>
          <p:nvPr/>
        </p:nvSpPr>
        <p:spPr>
          <a:xfrm>
            <a:off x="2471760" y="4572000"/>
            <a:ext cx="4119480" cy="892800"/>
          </a:xfrm>
          <a:prstGeom prst="roundRect">
            <a:avLst>
              <a:gd name="adj" fmla="val 17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 protokolliga vastus üle TCP/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liendi porti (mis port, sel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tleb klient TCP sees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Line 11"/>
          <p:cNvSpPr/>
          <p:nvPr/>
        </p:nvSpPr>
        <p:spPr>
          <a:xfrm>
            <a:off x="3478320" y="3735360"/>
            <a:ext cx="3162240" cy="9572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lline on HTTP protokollis päring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848720" cy="448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HTTP päring on 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esmajoones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ekstiline käsk serverile: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nna mulle selline fail”, kus näidatakse ära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onkreetne küsimus-käsk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faili asukoht ja nimi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tokoll, mida küsija kasutab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ja soovi korral lisainfot, nagu küsija programmi tüüp (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chrome, firefox, curl, ...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)</a:t>
            </a:r>
            <a:r>
              <a:rPr b="0" lang="ar-SA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Samas saab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HTTP päring</a:t>
            </a:r>
            <a:r>
              <a:rPr b="1" lang="et-EE" sz="2000" spc="-1" strike="noStrike">
                <a:solidFill>
                  <a:srgbClr val="000000"/>
                </a:solidFill>
                <a:latin typeface="Bitstream Vera Sans"/>
              </a:rPr>
              <a:t>ule kaasa anda teksti kujul andmeid,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mida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 server siis salvestab ja/või rehkendab nende järgi vastus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lline on HTTP protokollis vastus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59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TP ei ole ehitatud “biti või baidi” tasemel, vaid teksti ridade kaup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26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äis, tühi rida, tekstiread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HTTP/1.1 200 OK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ate: Thu, 06 Nov 2003 13:50:07 GM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erver: Apache/1.3.19 (Unix) PHP/4.1.1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ast-Modified: Sat, 10 Apr 1999 09:29:18 GM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Tag: "46d8-297-370f19ee"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ccept-Ranges: byte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ontent-Length: 663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onnection: clos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ontent-Type: text/htm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META HTTP-EQUIV="Content-type" CONTENT="text/html; charset=ISO-8859-1"&gt;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....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7" name="Freeform 3"/>
          <p:cNvSpPr/>
          <p:nvPr/>
        </p:nvSpPr>
        <p:spPr>
          <a:xfrm>
            <a:off x="577800" y="2147760"/>
            <a:ext cx="228600" cy="2362320"/>
          </a:xfrm>
          <a:custGeom>
            <a:avLst/>
            <a:gdLst>
              <a:gd name="textAreaLeft" fmla="*/ 0 w 228600"/>
              <a:gd name="textAreaRight" fmla="*/ 228960 w 228600"/>
              <a:gd name="textAreaTop" fmla="*/ 0 h 2362320"/>
              <a:gd name="textAreaBottom" fmla="*/ 2362680 h 2362320"/>
            </a:gdLst>
            <a:ahLst/>
            <a:rect l="textAreaLeft" t="textAreaTop" r="textAreaRight" b="textAreaBottom"/>
            <a:pathLst>
              <a:path w="636" h="6562">
                <a:moveTo>
                  <a:pt x="635" y="0"/>
                </a:moveTo>
                <a:cubicBezTo>
                  <a:pt x="476" y="0"/>
                  <a:pt x="317" y="273"/>
                  <a:pt x="317" y="546"/>
                </a:cubicBezTo>
                <a:lnTo>
                  <a:pt x="317" y="2734"/>
                </a:lnTo>
                <a:cubicBezTo>
                  <a:pt x="317" y="3007"/>
                  <a:pt x="158" y="3280"/>
                  <a:pt x="0" y="3280"/>
                </a:cubicBezTo>
                <a:cubicBezTo>
                  <a:pt x="158" y="3280"/>
                  <a:pt x="317" y="3554"/>
                  <a:pt x="317" y="3827"/>
                </a:cubicBezTo>
                <a:lnTo>
                  <a:pt x="317" y="6015"/>
                </a:lnTo>
                <a:cubicBezTo>
                  <a:pt x="317" y="6288"/>
                  <a:pt x="476" y="6561"/>
                  <a:pt x="635" y="6561"/>
                </a:cubicBezTo>
              </a:path>
            </a:pathLst>
          </a:custGeom>
          <a:noFill/>
          <a:ln w="2556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163080" y="2514600"/>
            <a:ext cx="350640" cy="1557720"/>
          </a:xfrm>
          <a:custGeom>
            <a:avLst/>
            <a:gdLst>
              <a:gd name="textAreaLeft" fmla="*/ 360 w 350640"/>
              <a:gd name="textAreaRight" fmla="*/ 350280 w 350640"/>
              <a:gd name="textAreaTop" fmla="*/ 360 h 1557720"/>
              <a:gd name="textAreaBottom" fmla="*/ 1557360 h 1557720"/>
            </a:gdLst>
            <a:ahLst/>
            <a:rect l="textAreaLeft" t="textAreaTop" r="textAreaRight" b="textAreaBottom"/>
            <a:pathLst>
              <a:path w="21600" h="95882">
                <a:moveTo>
                  <a:pt x="97" y="0"/>
                </a:moveTo>
                <a:arcTo wR="97" hR="97" stAng="16200000" swAng="-5400000"/>
                <a:lnTo>
                  <a:pt x="0" y="95785"/>
                </a:lnTo>
                <a:arcTo wR="97" hR="97" stAng="10800000" swAng="-5400000"/>
                <a:lnTo>
                  <a:pt x="21503" y="95882"/>
                </a:lnTo>
                <a:arcTo wR="97" hR="97" stAng="5400000" swAng="-5400000"/>
                <a:lnTo>
                  <a:pt x="21600" y="97"/>
                </a:lnTo>
                <a:arcTo wR="97" hR="97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ä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Line 5"/>
          <p:cNvSpPr/>
          <p:nvPr/>
        </p:nvSpPr>
        <p:spPr>
          <a:xfrm flipV="1">
            <a:off x="380880" y="4949640"/>
            <a:ext cx="480960" cy="31428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177840" y="5181480"/>
            <a:ext cx="689040" cy="826200"/>
          </a:xfrm>
          <a:custGeom>
            <a:avLst/>
            <a:gdLst>
              <a:gd name="textAreaLeft" fmla="*/ 360 w 689040"/>
              <a:gd name="textAreaRight" fmla="*/ 688680 w 689040"/>
              <a:gd name="textAreaTop" fmla="*/ 360 h 826200"/>
              <a:gd name="textAreaBottom" fmla="*/ 825840 h 826200"/>
            </a:gdLst>
            <a:ahLst/>
            <a:rect l="textAreaLeft" t="textAreaTop" r="textAreaRight" b="textAreaBottom"/>
            <a:pathLst>
              <a:path w="21600" h="25897">
                <a:moveTo>
                  <a:pt x="49" y="0"/>
                </a:moveTo>
                <a:arcTo wR="49" hR="49" stAng="16200000" swAng="-5400000"/>
                <a:lnTo>
                  <a:pt x="0" y="25848"/>
                </a:lnTo>
                <a:arcTo wR="49" hR="49" stAng="10800000" swAng="-5400000"/>
                <a:lnTo>
                  <a:pt x="21551" y="25897"/>
                </a:lnTo>
                <a:arcTo wR="49" hR="49" stAng="5400000" swAng="-5400000"/>
                <a:lnTo>
                  <a:pt x="21600" y="49"/>
                </a:lnTo>
                <a:arcTo wR="49" hR="49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üh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i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Freeform 7"/>
          <p:cNvSpPr/>
          <p:nvPr/>
        </p:nvSpPr>
        <p:spPr>
          <a:xfrm>
            <a:off x="8026560" y="5137200"/>
            <a:ext cx="609480" cy="1371600"/>
          </a:xfrm>
          <a:custGeom>
            <a:avLst/>
            <a:gdLst>
              <a:gd name="textAreaLeft" fmla="*/ 0 w 609480"/>
              <a:gd name="textAreaRight" fmla="*/ 609840 w 609480"/>
              <a:gd name="textAreaTop" fmla="*/ 0 h 1371600"/>
              <a:gd name="textAreaBottom" fmla="*/ 1371960 h 1371600"/>
            </a:gdLst>
            <a:ahLst/>
            <a:rect l="textAreaLeft" t="textAreaTop" r="textAreaRight" b="textAreaBottom"/>
            <a:pathLst>
              <a:path w="1695" h="3812">
                <a:moveTo>
                  <a:pt x="0" y="0"/>
                </a:moveTo>
                <a:cubicBezTo>
                  <a:pt x="423" y="0"/>
                  <a:pt x="847" y="158"/>
                  <a:pt x="847" y="317"/>
                </a:cubicBezTo>
                <a:lnTo>
                  <a:pt x="847" y="1587"/>
                </a:lnTo>
                <a:cubicBezTo>
                  <a:pt x="847" y="1746"/>
                  <a:pt x="1270" y="1905"/>
                  <a:pt x="1694" y="1905"/>
                </a:cubicBezTo>
                <a:cubicBezTo>
                  <a:pt x="1270" y="1905"/>
                  <a:pt x="847" y="2064"/>
                  <a:pt x="847" y="2223"/>
                </a:cubicBezTo>
                <a:lnTo>
                  <a:pt x="847" y="3493"/>
                </a:lnTo>
                <a:cubicBezTo>
                  <a:pt x="847" y="3652"/>
                  <a:pt x="423" y="3811"/>
                  <a:pt x="0" y="3811"/>
                </a:cubicBezTo>
              </a:path>
            </a:pathLst>
          </a:custGeom>
          <a:noFill/>
          <a:ln w="2556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AutoShape 8"/>
          <p:cNvSpPr/>
          <p:nvPr/>
        </p:nvSpPr>
        <p:spPr>
          <a:xfrm>
            <a:off x="7598160" y="4197240"/>
            <a:ext cx="1161360" cy="82620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geli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s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Mis on https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848720" cy="448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HTTP</a:t>
            </a: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 päring on </a:t>
            </a: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krüpteeritud variant http päringust: 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päring ise ja vastus krüpteeritakse võtmega, 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Bitstream Vera Sans"/>
              </a:rPr>
              <a:t>mis automaatselt genereeritakse iga ühenduse jaoks.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1676520"/>
            <a:ext cx="7848720" cy="448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36" name="Picture 1" descr=""/>
          <p:cNvPicPr/>
          <p:nvPr/>
        </p:nvPicPr>
        <p:blipFill>
          <a:blip r:embed="rId1"/>
          <a:stretch/>
        </p:blipFill>
        <p:spPr>
          <a:xfrm>
            <a:off x="1295280" y="304920"/>
            <a:ext cx="6229440" cy="6126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124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idas html-faili tõmmata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4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käsurealt curl programmiga (teine variant salvestab http päise)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curl https://news.ycombinator.com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curl https://news.ycombinator.com -i  &gt; ajut.tx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pythoni programmist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import urllib.reques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req = 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urllib.request.urlopen('http://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news.ycombinator.com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')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html =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req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.read()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print(html)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40" name="Group 3"/>
          <p:cNvGrpSpPr/>
          <p:nvPr/>
        </p:nvGrpSpPr>
        <p:grpSpPr>
          <a:xfrm>
            <a:off x="838080" y="372600"/>
            <a:ext cx="7766280" cy="314280"/>
            <a:chOff x="838080" y="372600"/>
            <a:chExt cx="7766280" cy="314280"/>
          </a:xfrm>
        </p:grpSpPr>
        <p:sp>
          <p:nvSpPr>
            <p:cNvPr id="141" name="Line 4"/>
            <p:cNvSpPr/>
            <p:nvPr/>
          </p:nvSpPr>
          <p:spPr>
            <a:xfrm>
              <a:off x="838080" y="679320"/>
              <a:ext cx="776448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Line 5"/>
            <p:cNvSpPr/>
            <p:nvPr/>
          </p:nvSpPr>
          <p:spPr>
            <a:xfrm flipV="1">
              <a:off x="8604360" y="372600"/>
              <a:ext cx="0" cy="3142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nel</dc:creator>
  <dc:description/>
  <dc:language>en-US</dc:language>
  <cp:lastModifiedBy>Tanel Tammet</cp:lastModifiedBy>
  <dcterms:modified xsi:type="dcterms:W3CDTF">2018-11-05T09:16:46Z</dcterms:modified>
  <cp:revision>62</cp:revision>
  <dc:subject/>
  <dc:title> </dc:title>
</cp:coreProperties>
</file>